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6796080" cy="992520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1545">
                <a:moveTo>
                  <a:pt x="5" y="0"/>
                </a:moveTo>
                <a:arcTo wR="5" hR="5" stAng="16200000" swAng="-5400000"/>
                <a:lnTo>
                  <a:pt x="0" y="31540"/>
                </a:lnTo>
                <a:arcTo wR="5" hR="5" stAng="10800000" swAng="-5400000"/>
                <a:lnTo>
                  <a:pt x="21595" y="3154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2"/>
          </p:nvPr>
        </p:nvSpPr>
        <p:spPr>
          <a:xfrm>
            <a:off x="38498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4400" cy="372132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744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3"/>
          </p:nvPr>
        </p:nvSpPr>
        <p:spPr>
          <a:xfrm>
            <a:off x="0" y="942804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4"/>
          </p:nvPr>
        </p:nvSpPr>
        <p:spPr>
          <a:xfrm>
            <a:off x="3849840" y="942804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EBD7DC-DA01-4B84-8F17-D068ADE0A724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22C63B-5E54-40B5-8FCD-C3B8ED2E75AE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67FC17-0CFD-4388-9F05-471D1EB2B7B3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81C9A8-2F99-4DBA-9152-0220E0DFF41E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265705-F73E-427A-BB84-E0AA3AF850AE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EFE6C3-F7A3-49BE-85D7-25F9121B6A21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71BE5E-D840-45EA-B48D-B7366C2C0E8F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CC8644-C598-42A7-A199-4526EC1D335D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A4A3D9-2B46-4668-B413-365E0A21191B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101996-B2F0-4D96-A112-23D491AF5F4C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920880" y="744480"/>
            <a:ext cx="4960800" cy="372276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07920" y="4716000"/>
            <a:ext cx="49816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6A0B2C-5CE4-46E4-A27B-561034BC0BCA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436A71-35CD-4248-BE4C-74DF1D22FFFA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C11836-17BF-49F1-B8DD-B6BAA42BE33D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9D3C55-32C7-4B0B-899D-E2BAA132F8F1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3A5CA0-2F51-4C4C-8992-594519407520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452349-E1CA-46E0-9202-E97B9618BD5D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9927F8-AD60-4907-A914-22236913A204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BEB865-A853-44F0-877D-266B2C57FD52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5E7A79-CA79-4C10-B3C8-E36295938C0D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06480" y="4714920"/>
            <a:ext cx="498456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18C9C2-5DFD-4878-B7BF-6120D86741F5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8ABA8A-3213-484B-8C44-E7E6144B2BC1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8A01D8-C160-446A-93FF-6327F27087B5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11AD45-A12B-494D-8AD0-BA4196AEF493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11160"/>
            <a:ext cx="29466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852720" y="9450360"/>
            <a:ext cx="29466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-1440" y="9450360"/>
            <a:ext cx="29462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-1440" y="11160"/>
            <a:ext cx="2946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852720" y="4680"/>
            <a:ext cx="29466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852720" y="9450360"/>
            <a:ext cx="29466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-1440" y="9450360"/>
            <a:ext cx="29462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-1440" y="4680"/>
            <a:ext cx="29462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227240" y="1058760"/>
            <a:ext cx="4413240" cy="33116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420480" y="5241960"/>
            <a:ext cx="593244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84B675-0399-444C-B977-D734DF9EB6DD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D3EE3-B99D-48C2-B6DD-33EAC99495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93192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6125E-F999-402A-BCD4-7A1FE73B2D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716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F3271-54C6-4C6E-AC60-412BAEC953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3584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1568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3584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1568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3DE7E-F129-4A55-A967-6E95E3C679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55640" y="301320"/>
            <a:ext cx="792648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46706-9692-407B-87D6-7A0C6DD64B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1716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5640" y="393192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1716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3584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1568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564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3584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1568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9BAD7-193E-4D0B-B5D4-2D560C3675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2C6A7-49D3-44A0-BA98-F36627413C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7A319-31C8-41DA-8EFA-5EC8983738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301320"/>
            <a:ext cx="792648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5CCC8-A5F1-4B9B-AEC9-56572CE9A2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E6AD3-4749-4F7C-94AD-1CC2A42C4C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716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17AD6-0251-48F1-869E-F72958366A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F568E-787E-4642-AC40-1CEE86F665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2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3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4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5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6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95280" y="260280"/>
            <a:ext cx="152280" cy="633744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68120" y="260280"/>
            <a:ext cx="155880" cy="6337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459280" y="6356160"/>
            <a:ext cx="682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1090436-DE45-4E10-933D-58F709224DF0}" type="slidenum">
              <a:rPr b="0" lang="fr-FR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748720" y="6350040"/>
            <a:ext cx="144360" cy="4046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106200" y="6404040"/>
            <a:ext cx="649440" cy="403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55640" y="404640"/>
            <a:ext cx="8064360" cy="6120000"/>
          </a:xfrm>
          <a:prstGeom prst="rect">
            <a:avLst/>
          </a:prstGeom>
          <a:solidFill>
            <a:srgbClr val="a50021"/>
          </a:solidFill>
          <a:ln cap="sq"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87280" y="2636640"/>
            <a:ext cx="723744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95280" y="404640"/>
            <a:ext cx="144360" cy="61200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8120" y="404640"/>
            <a:ext cx="147960" cy="6120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144360" y="141120"/>
          <a:ext cx="1187640" cy="695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360" y="141120"/>
                    <a:ext cx="118764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just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2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3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4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5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6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26560" y="1412640"/>
            <a:ext cx="79218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6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3400" spc="-1" strike="noStrike">
                <a:solidFill>
                  <a:srgbClr val="ffffff"/>
                </a:solidFill>
                <a:latin typeface="Arial"/>
              </a:rPr>
              <a:t>Cycle de conférences KSAP-ENA</a:t>
            </a:r>
            <a:br>
              <a:rPr sz="3400"/>
            </a:br>
            <a:br>
              <a:rPr sz="3400"/>
            </a:br>
            <a:r>
              <a:rPr b="1" lang="pl-PL" sz="3800" spc="-1" strike="noStrike">
                <a:solidFill>
                  <a:srgbClr val="ffffff"/>
                </a:solidFill>
                <a:latin typeface="Arial"/>
              </a:rPr>
              <a:t>La réforme budgétaire</a:t>
            </a:r>
            <a:br>
              <a:rPr sz="3800"/>
            </a:br>
            <a:br>
              <a:rPr sz="3400"/>
            </a:br>
            <a:r>
              <a:rPr b="0" lang="pl-PL" sz="3000" spc="-1" strike="noStrike">
                <a:solidFill>
                  <a:srgbClr val="ffffff"/>
                </a:solidFill>
                <a:latin typeface="Arial"/>
              </a:rPr>
              <a:t>Frank MORDACQ</a:t>
            </a:r>
            <a:br>
              <a:rPr sz="3000"/>
            </a:b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Ministère du Budget, des Comptes publics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et de la Fonction publique - Pari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450480" y="6014880"/>
            <a:ext cx="256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 Narrow"/>
              </a:rPr>
              <a:t>Varsovie, 11 décembre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438280" y="6489720"/>
            <a:ext cx="495324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Conférence cofinancée par l'Union Européenn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dans le cadre du Fond Social Europé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11527" t="21188" r="11121" b="21855"/>
          <a:stretch/>
        </p:blipFill>
        <p:spPr>
          <a:xfrm>
            <a:off x="2209680" y="6531120"/>
            <a:ext cx="914400" cy="326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6629400" y="6548400"/>
          <a:ext cx="838080" cy="309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629400" y="6548400"/>
                    <a:ext cx="83808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2. Un échange entre liberté et responsabilité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187280" y="1663560"/>
            <a:ext cx="2735280" cy="20703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Liberté accru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des acteur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de l’administrati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55640" y="3786120"/>
            <a:ext cx="36003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just">
              <a:spcBef>
                <a:spcPts val="4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72880"/>
                <a:tab algn="l" pos="1187280"/>
                <a:tab algn="l" pos="2101680"/>
                <a:tab algn="l" pos="3016080"/>
                <a:tab algn="l" pos="3930480"/>
                <a:tab algn="l" pos="4844880"/>
                <a:tab algn="l" pos="5759280"/>
                <a:tab algn="l" pos="6673680"/>
                <a:tab algn="l" pos="7588080"/>
                <a:tab algn="l" pos="8502480"/>
                <a:tab algn="l" pos="9416880"/>
                <a:tab algn="l" pos="103312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4d4d4d"/>
                </a:solidFill>
                <a:latin typeface="Arial"/>
              </a:rPr>
              <a:t>Globalisation des crédits par programm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spcBef>
                <a:spcPts val="4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72880"/>
                <a:tab algn="l" pos="1187280"/>
                <a:tab algn="l" pos="2101680"/>
                <a:tab algn="l" pos="3016080"/>
                <a:tab algn="l" pos="3930480"/>
                <a:tab algn="l" pos="4844880"/>
                <a:tab algn="l" pos="5759280"/>
                <a:tab algn="l" pos="6673680"/>
                <a:tab algn="l" pos="7588080"/>
                <a:tab algn="l" pos="8502480"/>
                <a:tab algn="l" pos="9416880"/>
                <a:tab algn="l" pos="103312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4d4d4d"/>
                </a:solidFill>
                <a:latin typeface="Arial"/>
              </a:rPr>
              <a:t>Fongibilité des crédits par nature, mais avec un plafond de masse salarial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spcBef>
                <a:spcPts val="4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72880"/>
                <a:tab algn="l" pos="1187280"/>
                <a:tab algn="l" pos="2101680"/>
                <a:tab algn="l" pos="3016080"/>
                <a:tab algn="l" pos="3930480"/>
                <a:tab algn="l" pos="4844880"/>
                <a:tab algn="l" pos="5759280"/>
                <a:tab algn="l" pos="6673680"/>
                <a:tab algn="l" pos="7588080"/>
                <a:tab algn="l" pos="8502480"/>
                <a:tab algn="l" pos="9416880"/>
                <a:tab algn="l" pos="103312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4d4d4d"/>
                </a:solidFill>
                <a:latin typeface="Arial"/>
              </a:rPr>
              <a:t>Liberté de redéploiement des effectifs dans un plafond d’emplois exprimé en équivalent temps plei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308560" y="1663560"/>
            <a:ext cx="2792520" cy="20703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Plus grand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Responsabilité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des gestionnair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de programm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076720" y="3786120"/>
            <a:ext cx="3382920" cy="24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just">
              <a:spcBef>
                <a:spcPts val="4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72880"/>
                <a:tab algn="l" pos="1187280"/>
                <a:tab algn="l" pos="2101680"/>
                <a:tab algn="l" pos="3016080"/>
                <a:tab algn="l" pos="3930480"/>
                <a:tab algn="l" pos="4844880"/>
                <a:tab algn="l" pos="5759280"/>
                <a:tab algn="l" pos="6673680"/>
                <a:tab algn="l" pos="7588080"/>
                <a:tab algn="l" pos="8502480"/>
                <a:tab algn="l" pos="9416880"/>
                <a:tab algn="l" pos="103312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4d4d4d"/>
                </a:solidFill>
                <a:latin typeface="Arial"/>
              </a:rPr>
              <a:t>S’engager sur des objectifs et rendre compte des résultats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spcBef>
                <a:spcPts val="4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72880"/>
                <a:tab algn="l" pos="1187280"/>
                <a:tab algn="l" pos="2101680"/>
                <a:tab algn="l" pos="3016080"/>
                <a:tab algn="l" pos="3930480"/>
                <a:tab algn="l" pos="4844880"/>
                <a:tab algn="l" pos="5759280"/>
                <a:tab algn="l" pos="6673680"/>
                <a:tab algn="l" pos="7588080"/>
                <a:tab algn="l" pos="8502480"/>
                <a:tab algn="l" pos="9416880"/>
                <a:tab algn="l" pos="103312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4d4d4d"/>
                </a:solidFill>
                <a:latin typeface="Arial"/>
              </a:rPr>
              <a:t>Rendre compte de l’utilisation des crédits par nature et par finalité de la dépens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spcBef>
                <a:spcPts val="4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72880"/>
                <a:tab algn="l" pos="1187280"/>
                <a:tab algn="l" pos="2101680"/>
                <a:tab algn="l" pos="3016080"/>
                <a:tab algn="l" pos="3930480"/>
                <a:tab algn="l" pos="4844880"/>
                <a:tab algn="l" pos="5759280"/>
                <a:tab algn="l" pos="6673680"/>
                <a:tab algn="l" pos="7588080"/>
                <a:tab algn="l" pos="8502480"/>
                <a:tab algn="l" pos="9416880"/>
                <a:tab algn="l" pos="103312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4d4d4d"/>
                </a:solidFill>
                <a:latin typeface="Arial"/>
              </a:rPr>
              <a:t>Plus d’information dans l’exécution du budget en engagements et en paiemen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spcBef>
                <a:spcPts val="425"/>
              </a:spcBef>
              <a:tabLst>
                <a:tab algn="l" pos="0"/>
                <a:tab algn="l" pos="272880"/>
                <a:tab algn="l" pos="1187280"/>
                <a:tab algn="l" pos="2101680"/>
                <a:tab algn="l" pos="3016080"/>
                <a:tab algn="l" pos="3930480"/>
                <a:tab algn="l" pos="4844880"/>
                <a:tab algn="l" pos="5759280"/>
                <a:tab algn="l" pos="6673680"/>
                <a:tab algn="l" pos="7588080"/>
                <a:tab algn="l" pos="8502480"/>
                <a:tab algn="l" pos="9416880"/>
                <a:tab algn="l" pos="1033128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9E8E9-D639-4EEE-9E52-E5E53C8FB5B9}" type="slidenum">
              <a:t>10</a:t>
            </a:fld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" name=""/>
          <p:cNvGrpSpPr/>
          <p:nvPr/>
        </p:nvGrpSpPr>
        <p:grpSpPr>
          <a:xfrm>
            <a:off x="1314360" y="836640"/>
            <a:ext cx="7245360" cy="5956200"/>
            <a:chOff x="1314360" y="836640"/>
            <a:chExt cx="7245360" cy="5956200"/>
          </a:xfrm>
        </p:grpSpPr>
        <p:pic>
          <p:nvPicPr>
            <p:cNvPr id="179" name="" descr=""/>
            <p:cNvPicPr/>
            <p:nvPr/>
          </p:nvPicPr>
          <p:blipFill>
            <a:blip r:embed="rId1"/>
            <a:stretch/>
          </p:blipFill>
          <p:spPr>
            <a:xfrm>
              <a:off x="1314360" y="836640"/>
              <a:ext cx="7245360" cy="595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3989160" y="4480920"/>
              <a:ext cx="1505880" cy="3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3520" rIns="83520" tIns="41760" bIns="417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a40079"/>
                  </a:solidFill>
                  <a:latin typeface="Arial"/>
                </a:rPr>
                <a:t>FONGIBILITÉ</a:t>
              </a:r>
              <a:r>
                <a:rPr b="0" lang="pl-PL" sz="1600" spc="-1" strike="noStrike">
                  <a:solidFill>
                    <a:srgbClr val="a40079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5238720" y="2963880"/>
              <a:ext cx="1960560" cy="1432080"/>
              <a:chOff x="5238720" y="2963880"/>
              <a:chExt cx="1960560" cy="1432080"/>
            </a:xfrm>
          </p:grpSpPr>
          <p:sp>
            <p:nvSpPr>
              <p:cNvPr id="182" name=""/>
              <p:cNvSpPr/>
              <p:nvPr/>
            </p:nvSpPr>
            <p:spPr>
              <a:xfrm>
                <a:off x="5425920" y="3681360"/>
                <a:ext cx="1773360" cy="714600"/>
              </a:xfrm>
              <a:custGeom>
                <a:avLst/>
                <a:gdLst>
                  <a:gd name="textAreaLeft" fmla="*/ 310320 w 1773360"/>
                  <a:gd name="textAreaRight" fmla="*/ 1285920 w 1773360"/>
                  <a:gd name="textAreaTop" fmla="*/ 95760 h 714600"/>
                  <a:gd name="textAreaBottom" fmla="*/ 618840 h 714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arcTo wR="7560" hR="21600" stAng="10800000" swAng="-5400000"/>
                    <a:lnTo>
                      <a:pt x="11880" y="21600"/>
                    </a:lnTo>
                    <a:arcTo wR="7560" hR="21600" stAng="5400000" swAng="-2682637"/>
                    <a:lnTo>
                      <a:pt x="21168" y="7200"/>
                    </a:lnTo>
                    <a:lnTo>
                      <a:pt x="17280" y="0"/>
                    </a:lnTo>
                    <a:lnTo>
                      <a:pt x="12528" y="7200"/>
                    </a:lnTo>
                    <a:lnTo>
                      <a:pt x="14688" y="7200"/>
                    </a:lnTo>
                    <a:arcTo wR="7560" hR="21600" stAng="2717363" swAng="2325203"/>
                    <a:lnTo>
                      <a:pt x="9720" y="20700"/>
                    </a:lnTo>
                    <a:arcTo wR="7560" hR="21600" stAng="5757435" swAng="5042565"/>
                    <a:close/>
                  </a:path>
                  <a:path fill="darkenLess" w="21600" h="21600">
                    <a:moveTo>
                      <a:pt x="0" y="0"/>
                    </a:moveTo>
                    <a:arcTo wR="7560" hR="21600" stAng="10800000" swAng="-5400000"/>
                    <a:lnTo>
                      <a:pt x="11880" y="21600"/>
                    </a:lnTo>
                    <a:arcTo wR="7560" hR="21600" stAng="5400000" swAng="357435"/>
                    <a:lnTo>
                      <a:pt x="9720" y="20700"/>
                    </a:lnTo>
                    <a:arcTo wR="7560" hR="21600" stAng="5757435" swAng="5042565"/>
                    <a:close/>
                  </a:path>
                </a:pathLst>
              </a:custGeom>
              <a:solidFill>
                <a:srgbClr val="33cccc"/>
              </a:solidFill>
              <a:ln cap="sq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flipH="1">
                <a:off x="5238720" y="2963880"/>
                <a:ext cx="1773360" cy="716040"/>
              </a:xfrm>
              <a:custGeom>
                <a:avLst/>
                <a:gdLst>
                  <a:gd name="textAreaLeft" fmla="*/ 310320 w 1773360"/>
                  <a:gd name="textAreaRight" fmla="*/ 1285920 w 1773360"/>
                  <a:gd name="textAreaTop" fmla="*/ 95760 h 716040"/>
                  <a:gd name="textAreaBottom" fmla="*/ 620280 h 716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560" hR="21600" stAng="10800000" swAng="5400000"/>
                    <a:lnTo>
                      <a:pt x="11880" y="0"/>
                    </a:lnTo>
                    <a:arcTo wR="7560" hR="21600" stAng="-5400000" swAng="2682637"/>
                    <a:lnTo>
                      <a:pt x="21168" y="14400"/>
                    </a:lnTo>
                    <a:lnTo>
                      <a:pt x="17280" y="21600"/>
                    </a:lnTo>
                    <a:lnTo>
                      <a:pt x="12528" y="14400"/>
                    </a:lnTo>
                    <a:lnTo>
                      <a:pt x="14688" y="14400"/>
                    </a:lnTo>
                    <a:arcTo wR="7560" hR="21600" stAng="-2717363" swAng="-2325203"/>
                    <a:lnTo>
                      <a:pt x="9720" y="900"/>
                    </a:lnTo>
                    <a:arcTo wR="7560" hR="21600" stAng="-5757435" swAng="-5042565"/>
                    <a:close/>
                  </a:path>
                  <a:path fill="darkenLess" w="21600" h="21600">
                    <a:moveTo>
                      <a:pt x="0" y="21600"/>
                    </a:moveTo>
                    <a:arcTo wR="7560" hR="21600" stAng="10800000" swAng="5400000"/>
                    <a:lnTo>
                      <a:pt x="7560" y="0"/>
                    </a:lnTo>
                    <a:arcTo wR="7560" hR="21600" stAng="-5400000" swAng="357435"/>
                    <a:lnTo>
                      <a:pt x="9720" y="900"/>
                    </a:lnTo>
                    <a:arcTo wR="7560" hR="21600" stAng="-5757435" swAng="-5042565"/>
                    <a:close/>
                  </a:path>
                </a:pathLst>
              </a:custGeom>
              <a:solidFill>
                <a:srgbClr val="33cccc"/>
              </a:solidFill>
              <a:ln cap="sq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4" name=""/>
            <p:cNvSpPr/>
            <p:nvPr/>
          </p:nvSpPr>
          <p:spPr>
            <a:xfrm>
              <a:off x="4106880" y="5616720"/>
              <a:ext cx="1357200" cy="357120"/>
            </a:xfrm>
            <a:prstGeom prst="rightArrow">
              <a:avLst>
                <a:gd name="adj1" fmla="val 50000"/>
                <a:gd name="adj2" fmla="val 95010"/>
              </a:avLst>
            </a:prstGeom>
            <a:solidFill>
              <a:srgbClr val="33cccc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4029840" y="4971960"/>
              <a:ext cx="1357560" cy="357120"/>
            </a:xfrm>
            <a:prstGeom prst="rightArrow">
              <a:avLst>
                <a:gd name="adj1" fmla="val 50000"/>
                <a:gd name="adj2" fmla="val 95035"/>
              </a:avLst>
            </a:prstGeom>
            <a:solidFill>
              <a:srgbClr val="33cccc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6" name=""/>
            <p:cNvGrpSpPr/>
            <p:nvPr/>
          </p:nvGrpSpPr>
          <p:grpSpPr>
            <a:xfrm>
              <a:off x="3655800" y="3179880"/>
              <a:ext cx="903600" cy="786960"/>
              <a:chOff x="3655800" y="3179880"/>
              <a:chExt cx="903600" cy="786960"/>
            </a:xfrm>
          </p:grpSpPr>
          <p:sp>
            <p:nvSpPr>
              <p:cNvPr id="187" name=""/>
              <p:cNvSpPr/>
              <p:nvPr/>
            </p:nvSpPr>
            <p:spPr>
              <a:xfrm>
                <a:off x="3741840" y="3574080"/>
                <a:ext cx="817560" cy="392760"/>
              </a:xfrm>
              <a:custGeom>
                <a:avLst/>
                <a:gdLst>
                  <a:gd name="textAreaLeft" fmla="*/ 142920 w 817560"/>
                  <a:gd name="textAreaRight" fmla="*/ 592920 w 817560"/>
                  <a:gd name="textAreaTop" fmla="*/ 52560 h 392760"/>
                  <a:gd name="textAreaBottom" fmla="*/ 340200 h 392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arcTo wR="7560" hR="21600" stAng="10800000" swAng="-5400000"/>
                    <a:lnTo>
                      <a:pt x="11880" y="21600"/>
                    </a:lnTo>
                    <a:arcTo wR="7560" hR="21600" stAng="5400000" swAng="-2682637"/>
                    <a:lnTo>
                      <a:pt x="21168" y="7200"/>
                    </a:lnTo>
                    <a:lnTo>
                      <a:pt x="17280" y="0"/>
                    </a:lnTo>
                    <a:lnTo>
                      <a:pt x="12528" y="7200"/>
                    </a:lnTo>
                    <a:lnTo>
                      <a:pt x="14688" y="7200"/>
                    </a:lnTo>
                    <a:arcTo wR="7560" hR="21600" stAng="2717363" swAng="2325203"/>
                    <a:lnTo>
                      <a:pt x="9720" y="20700"/>
                    </a:lnTo>
                    <a:arcTo wR="7560" hR="21600" stAng="5757435" swAng="5042565"/>
                    <a:close/>
                  </a:path>
                  <a:path fill="darkenLess" w="21600" h="21600">
                    <a:moveTo>
                      <a:pt x="0" y="0"/>
                    </a:moveTo>
                    <a:arcTo wR="7560" hR="21600" stAng="10800000" swAng="-5400000"/>
                    <a:lnTo>
                      <a:pt x="11880" y="21600"/>
                    </a:lnTo>
                    <a:arcTo wR="7560" hR="21600" stAng="5400000" swAng="357435"/>
                    <a:lnTo>
                      <a:pt x="9720" y="20700"/>
                    </a:lnTo>
                    <a:arcTo wR="7560" hR="21600" stAng="5757435" swAng="5042565"/>
                    <a:close/>
                  </a:path>
                </a:pathLst>
              </a:custGeom>
              <a:solidFill>
                <a:srgbClr val="33cccc"/>
              </a:solidFill>
              <a:ln cap="sq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flipH="1">
                <a:off x="3655440" y="3179880"/>
                <a:ext cx="817560" cy="394200"/>
              </a:xfrm>
              <a:custGeom>
                <a:avLst/>
                <a:gdLst>
                  <a:gd name="textAreaLeft" fmla="*/ 142560 w 817560"/>
                  <a:gd name="textAreaRight" fmla="*/ 592560 w 817560"/>
                  <a:gd name="textAreaTop" fmla="*/ 52560 h 394200"/>
                  <a:gd name="textAreaBottom" fmla="*/ 341640 h 39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560" hR="21600" stAng="10800000" swAng="5400000"/>
                    <a:lnTo>
                      <a:pt x="11880" y="0"/>
                    </a:lnTo>
                    <a:arcTo wR="7560" hR="21600" stAng="-5400000" swAng="2682637"/>
                    <a:lnTo>
                      <a:pt x="21168" y="14400"/>
                    </a:lnTo>
                    <a:lnTo>
                      <a:pt x="17280" y="21600"/>
                    </a:lnTo>
                    <a:lnTo>
                      <a:pt x="12528" y="14400"/>
                    </a:lnTo>
                    <a:lnTo>
                      <a:pt x="14688" y="14400"/>
                    </a:lnTo>
                    <a:arcTo wR="7560" hR="21600" stAng="-2717363" swAng="-2325203"/>
                    <a:lnTo>
                      <a:pt x="9720" y="900"/>
                    </a:lnTo>
                    <a:arcTo wR="7560" hR="21600" stAng="-5757435" swAng="-5042565"/>
                    <a:close/>
                  </a:path>
                  <a:path fill="darkenLess" w="21600" h="21600">
                    <a:moveTo>
                      <a:pt x="0" y="21600"/>
                    </a:moveTo>
                    <a:arcTo wR="7560" hR="21600" stAng="10800000" swAng="5400000"/>
                    <a:lnTo>
                      <a:pt x="7560" y="0"/>
                    </a:lnTo>
                    <a:arcTo wR="7560" hR="21600" stAng="-5400000" swAng="357435"/>
                    <a:lnTo>
                      <a:pt x="9720" y="900"/>
                    </a:lnTo>
                    <a:arcTo wR="7560" hR="21600" stAng="-5757435" swAng="-5042565"/>
                    <a:close/>
                  </a:path>
                </a:pathLst>
              </a:custGeom>
              <a:solidFill>
                <a:srgbClr val="33cccc"/>
              </a:solidFill>
              <a:ln cap="sq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9" name=""/>
            <p:cNvSpPr/>
            <p:nvPr/>
          </p:nvSpPr>
          <p:spPr>
            <a:xfrm>
              <a:off x="4560840" y="4900680"/>
              <a:ext cx="525600" cy="42840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>
              <a:off x="4559040" y="4900680"/>
              <a:ext cx="453960" cy="42840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927920" cy="60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a fongibilité au sein du programm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30CAF-CFE6-489D-810D-1F27DEE22E42}" type="slidenum">
              <a:t>11</a:t>
            </a:fld>
          </a:p>
        </p:txBody>
      </p:sp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3. Un budget orienté vers les résultats : la recherche de la PERFORMANC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79279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600" spc="-1" strike="noStrike">
                <a:solidFill>
                  <a:srgbClr val="4d4d4d"/>
                </a:solidFill>
                <a:latin typeface="Wingdings 3"/>
                <a:ea typeface="Wingdings 3"/>
              </a:rPr>
              <a:t>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s objectifs déterminés dans le cadre des moyens alloués (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≠ budgétisation par objectif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600" spc="-1" strike="noStrike">
                <a:solidFill>
                  <a:srgbClr val="4d4d4d"/>
                </a:solidFill>
                <a:latin typeface="Wingdings 3"/>
                <a:ea typeface="Wingdings 3"/>
              </a:rPr>
              <a:t>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Des objectifs d’amélioration de l’efficacité de la dépens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S’engager sur les résultats : </a:t>
            </a:r>
            <a:r>
              <a:rPr b="0" i="1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le projet annuel de performance (LFI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Rendre compte des résultats : </a:t>
            </a:r>
            <a:r>
              <a:rPr b="0" i="1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le rapport annuel de performance (LR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Même présentation, même structure que le projet annuel de performance afin de faciliter la comparaison prévisions/réalisation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Vote en première lecture sur la loi de règlement n-1 avant l’examen du PLF n+1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AE3EF-1408-4AE7-8C04-C6B3DCBDF734}" type="slidenum">
              <a:t>12</a:t>
            </a:fld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e sens de la  performance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9440" indent="-379440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guide méthodologiqu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partagé entre le</a:t>
            </a:r>
            <a:br>
              <a:rPr sz="2000"/>
            </a:b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Gouvernement, le Parlement, la Cour des Comptes et le CIAP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79440" indent="-37944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e sélection d’objectifs et d’indicateurs de résultats représentative des priorités du programm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17560" indent="-34272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e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stratégi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pour expliquer la cohérenc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17560" indent="-34272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s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objectif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pour répondre aux attentes du citoyen,</a:t>
            </a:r>
            <a:br>
              <a:rPr sz="2000"/>
            </a:b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 l’usager et du contribuable : un choix politiqu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17560" indent="-34272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s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indicateur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pour mesurer la réalisation des objectifs retenu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79440" indent="-37944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s objectifs et indicateurs 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17560" indent="-34272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Eclairent les politiques et sont présentés au Parlement dans les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PAP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et dont il est rendu compte dans les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AP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17560" indent="-34272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tilisés et déclinés dans la gestion interne et donnant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un sens à l’activité de chaque agent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7329600" y="114480"/>
            <a:ext cx="1419120" cy="1585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54DB1-0ADB-4E82-9E6A-31E72661B789}" type="slidenum">
              <a:t>13</a:t>
            </a:fld>
          </a:p>
        </p:txBody>
      </p:sp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es dimensions de la performanc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792792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Trois dimensions de la performance 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1125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efficacité socio-économique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 (point de vue du citoyen) : les effets attendus des politiques publique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qualité du service rendu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 (point de vue de l’usager) : la qualité exigée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efficacité de la gestion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 (point de vue du contribuable) : l’optimisation des moyen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s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indicateur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de mesure des résultats pour chaque objectif en fixant des cibles (niveaux de performance obtenus et attendus)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s objectifs de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performanc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et non d’activité ou de moyen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s objectifs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imputable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aux responsable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  contrôle permanent exercé par un organisme public indépendant: le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comité interministériel d’audit des programmes (CIAP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F36AB-54B4-4FF5-B12C-85A73A869B9A}" type="slidenum">
              <a:t>14</a:t>
            </a:fld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e pilotage par la performance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55640" y="1557000"/>
            <a:ext cx="79279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spcBef>
                <a:spcPts val="5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5 objectifs par programme, 2 indicateurs par objectif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5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500 objectifs – 1.000 indicateurs en 2009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897840" y="2492280"/>
            <a:ext cx="7696800" cy="3346560"/>
            <a:chOff x="897840" y="2492280"/>
            <a:chExt cx="7696800" cy="3346560"/>
          </a:xfrm>
        </p:grpSpPr>
        <p:sp>
          <p:nvSpPr>
            <p:cNvPr id="202" name=""/>
            <p:cNvSpPr/>
            <p:nvPr/>
          </p:nvSpPr>
          <p:spPr>
            <a:xfrm>
              <a:off x="900000" y="5077080"/>
              <a:ext cx="7694640" cy="0"/>
            </a:xfrm>
            <a:prstGeom prst="line">
              <a:avLst/>
            </a:prstGeom>
            <a:ln cap="sq" w="316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900000" y="4009320"/>
              <a:ext cx="7694640" cy="10800"/>
            </a:xfrm>
            <a:prstGeom prst="line">
              <a:avLst/>
            </a:prstGeom>
            <a:ln cap="sq" w="316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900000" y="5838840"/>
              <a:ext cx="7694640" cy="0"/>
            </a:xfrm>
            <a:prstGeom prst="line">
              <a:avLst/>
            </a:prstGeom>
            <a:ln cap="sq" w="316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flipV="1">
              <a:off x="900000" y="3171240"/>
              <a:ext cx="7694640" cy="10440"/>
            </a:xfrm>
            <a:prstGeom prst="line">
              <a:avLst/>
            </a:prstGeom>
            <a:ln cap="sq" w="316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98560" y="2644560"/>
              <a:ext cx="155916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000" spc="-1" strike="noStrike">
                  <a:solidFill>
                    <a:srgbClr val="ff9933"/>
                  </a:solidFill>
                  <a:latin typeface="Arial"/>
                </a:rPr>
                <a:t>Point de vu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498400" y="2644560"/>
              <a:ext cx="173124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000" spc="-1" strike="noStrike">
                  <a:solidFill>
                    <a:srgbClr val="ff9933"/>
                  </a:solidFill>
                  <a:latin typeface="Arial"/>
                </a:rPr>
                <a:t>Axe d’analy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327560" y="2492280"/>
              <a:ext cx="1333440" cy="75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000" spc="-1" strike="noStrike">
                  <a:solidFill>
                    <a:srgbClr val="ff9933"/>
                  </a:solidFill>
                  <a:latin typeface="Arial"/>
                </a:rPr>
                <a:t>Exemples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000" spc="-1" strike="noStrike">
                  <a:solidFill>
                    <a:srgbClr val="ff9933"/>
                  </a:solidFill>
                  <a:latin typeface="Arial"/>
                </a:rPr>
                <a:t>d’objecti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309720" y="2492280"/>
              <a:ext cx="1447920" cy="75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000" spc="-1" strike="noStrike">
                  <a:solidFill>
                    <a:srgbClr val="ff9933"/>
                  </a:solidFill>
                  <a:latin typeface="Arial"/>
                </a:rPr>
                <a:t>Exemples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000" spc="-1" strike="noStrike">
                  <a:solidFill>
                    <a:srgbClr val="ff9933"/>
                  </a:solidFill>
                  <a:latin typeface="Arial"/>
                </a:rPr>
                <a:t>d’indicateu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97840" y="3258720"/>
              <a:ext cx="917280" cy="41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Arial"/>
                </a:rPr>
                <a:t>Citoy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9640" y="4020480"/>
              <a:ext cx="879120" cy="41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Arial"/>
                </a:rPr>
                <a:t>Us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898920" y="5077080"/>
              <a:ext cx="1435680" cy="41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Arial"/>
                </a:rPr>
                <a:t>Contribu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499480" y="3228480"/>
              <a:ext cx="1592640" cy="57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efficacité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socio-économiqu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498400" y="4042800"/>
              <a:ext cx="1536120" cy="57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qualité du servi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end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499840" y="5110200"/>
              <a:ext cx="1158120" cy="57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efficacité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de la ges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327920" y="3206520"/>
              <a:ext cx="1772280" cy="78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Accroître l’insertion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professionnell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des jeunes diplômé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309360" y="3173040"/>
              <a:ext cx="2228040" cy="78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% de diplômés ayant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un emploi 6 mois aprè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l’obtention de leur diplôm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327920" y="4042800"/>
              <a:ext cx="1734120" cy="57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Accélérer le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décisions judiciair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328280" y="5110200"/>
              <a:ext cx="1644480" cy="57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éduire le coût d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gestion de l’impô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299640" y="4010760"/>
              <a:ext cx="2042280" cy="99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Durée moyenne de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décisions rendues ;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Ancienneté moyenn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des jugements en cou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307920" y="5077080"/>
              <a:ext cx="2049840" cy="57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Coût par redevable d’u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impô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82B9C-75E8-4DF9-9A99-E4677A69FB8C}" type="slidenum">
              <a:t>15</a:t>
            </a:fld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4. La transparence des information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79279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s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épenses de personnel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en coût complet intégrant les cotisations patronales + l’ensemble des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emploi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rémunérées par l’Etat exprimés en « équivalents temps plein travaillés »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ETPT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e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justification au premier euro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des crédits (éléments physico-financiers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e renforcement du principe d’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universalité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budgétair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a présentation des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opérateur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(emplois et crédits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a généralisation des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Autorisations d’Engagement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à toutes les dépense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e comptabilité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’analyse du coût des action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, répartissant les fonctions support et les services polyvalents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6F89C-07A0-460B-9F5B-0AFBB959A38F}" type="slidenum">
              <a:t>16</a:t>
            </a:fld>
          </a:p>
        </p:txBody>
      </p:sp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55640" y="301680"/>
            <a:ext cx="7927920" cy="12556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5. La nouvelle comptabilité</a:t>
            </a:r>
            <a:br>
              <a:rPr sz="3000"/>
            </a:br>
            <a:r>
              <a:rPr b="1" lang="pl-PL" sz="2700" spc="-1" strike="noStrike">
                <a:solidFill>
                  <a:srgbClr val="ffffff"/>
                </a:solidFill>
                <a:latin typeface="Arial"/>
              </a:rPr>
              <a:t>Les outils de mesure de la situation financière de l’Etat</a:t>
            </a:r>
            <a:endParaRPr b="1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92792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spcBef>
                <a:spcPts val="18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La comptabilité élevée au niveau d’une loi organique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8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A coté de la comptabilité budgétaire en caisse, introduction de la </a:t>
            </a: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comptabilité d’exercice, en droits constatés 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 pour assurer la transparence de la situation financière de l’Etat (bilan +  hors-bilan)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8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Des comptes réguliers, sincères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 et donnant une image </a:t>
            </a: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fidèle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 de son patrimoine et de sa situation financière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8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Une exigence de </a:t>
            </a: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qualité comptable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 confiée aux comptables en lien avec les ordonnateurs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7726F-F08F-4A4D-A799-C13A18AC8293}" type="slidenum">
              <a:t>17</a:t>
            </a:fld>
          </a:p>
        </p:txBody>
      </p:sp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Une nouvelle comptabilité à trois dimension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90520" indent="-290520" algn="just">
              <a:spcBef>
                <a:spcPts val="5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63640"/>
                <a:tab algn="l" pos="1778040"/>
                <a:tab algn="l" pos="2692440"/>
                <a:tab algn="l" pos="3606840"/>
                <a:tab algn="l" pos="4521240"/>
                <a:tab algn="l" pos="5435640"/>
                <a:tab algn="l" pos="6350040"/>
                <a:tab algn="l" pos="7264440"/>
                <a:tab algn="l" pos="8178840"/>
                <a:tab algn="l" pos="9093240"/>
                <a:tab algn="l" pos="10007640"/>
                <a:tab algn="l" pos="10333080"/>
                <a:tab algn="l" pos="10782360"/>
              </a:tabLst>
            </a:pP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Une comptabilité budgétaire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988560" indent="-41976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863640"/>
                <a:tab algn="l" pos="1778040"/>
                <a:tab algn="l" pos="2692440"/>
                <a:tab algn="l" pos="3606840"/>
                <a:tab algn="l" pos="4521240"/>
                <a:tab algn="l" pos="5435640"/>
                <a:tab algn="l" pos="6350040"/>
                <a:tab algn="l" pos="7264440"/>
                <a:tab algn="l" pos="8178840"/>
                <a:tab algn="l" pos="9093240"/>
                <a:tab algn="l" pos="1000764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Fondée sur la comptabilisation des recettes et des dépenses budgétaires (encaissements/paiements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988560" indent="-41976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863640"/>
                <a:tab algn="l" pos="1778040"/>
                <a:tab algn="l" pos="2692440"/>
                <a:tab algn="l" pos="3606840"/>
                <a:tab algn="l" pos="4521240"/>
                <a:tab algn="l" pos="5435640"/>
                <a:tab algn="l" pos="6350040"/>
                <a:tab algn="l" pos="7264440"/>
                <a:tab algn="l" pos="8178840"/>
                <a:tab algn="l" pos="9093240"/>
                <a:tab algn="l" pos="1000764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ériode complémentaire comptable de 20 jour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988560" indent="-41976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863640"/>
                <a:tab algn="l" pos="1778040"/>
                <a:tab algn="l" pos="2692440"/>
                <a:tab algn="l" pos="3606840"/>
                <a:tab algn="l" pos="4521240"/>
                <a:tab algn="l" pos="5435640"/>
                <a:tab algn="l" pos="6350040"/>
                <a:tab algn="l" pos="7264440"/>
                <a:tab algn="l" pos="8178840"/>
                <a:tab algn="l" pos="9093240"/>
                <a:tab algn="l" pos="1000764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 double suivi AE/CP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290520" indent="-290520" algn="just">
              <a:spcBef>
                <a:spcPts val="137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63640"/>
                <a:tab algn="l" pos="1778040"/>
                <a:tab algn="l" pos="2692440"/>
                <a:tab algn="l" pos="3606840"/>
                <a:tab algn="l" pos="4521240"/>
                <a:tab algn="l" pos="5435640"/>
                <a:tab algn="l" pos="6350040"/>
                <a:tab algn="l" pos="7264440"/>
                <a:tab algn="l" pos="8178840"/>
                <a:tab algn="l" pos="9093240"/>
                <a:tab algn="l" pos="10007640"/>
                <a:tab algn="l" pos="10333080"/>
                <a:tab algn="l" pos="10782360"/>
              </a:tabLst>
            </a:pP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Une comptabilité d’exercice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  fondée sur la constatation des droits et obligations, proche des règles de comptabilité des entreprises :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988560" indent="-41976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863640"/>
                <a:tab algn="l" pos="1778040"/>
                <a:tab algn="l" pos="2692440"/>
                <a:tab algn="l" pos="3606840"/>
                <a:tab algn="l" pos="4521240"/>
                <a:tab algn="l" pos="5435640"/>
                <a:tab algn="l" pos="6350040"/>
                <a:tab algn="l" pos="7264440"/>
                <a:tab algn="l" pos="8178840"/>
                <a:tab algn="l" pos="9093240"/>
                <a:tab algn="l" pos="1000764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es opérations sont prises en compte au titre de l’exercice auquel elles se rattachent, indépendamment de leur date de paiement ou d’encaissement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290520" indent="-290520" algn="just">
              <a:spcBef>
                <a:spcPts val="137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63640"/>
                <a:tab algn="l" pos="1778040"/>
                <a:tab algn="l" pos="2692440"/>
                <a:tab algn="l" pos="3606840"/>
                <a:tab algn="l" pos="4521240"/>
                <a:tab algn="l" pos="5435640"/>
                <a:tab algn="l" pos="6350040"/>
                <a:tab algn="l" pos="7264440"/>
                <a:tab algn="l" pos="8178840"/>
                <a:tab algn="l" pos="9093240"/>
                <a:tab algn="l" pos="10007640"/>
                <a:tab algn="l" pos="10333080"/>
                <a:tab algn="l" pos="10782360"/>
              </a:tabLst>
            </a:pP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Une analyse des coûts des actions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  au service du gestionnaire (cf. CAC)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290600" y="173160"/>
            <a:ext cx="66391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01F6B-4DE6-4B8B-B953-FACD4F902F81}" type="slidenum">
              <a:t>18</a:t>
            </a:fld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a mise en œuvre de la nouvelle comptabilité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Font typeface="Arial"/>
              <a:buAutoNum type="arabicPeriod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a définition du cadre conceptuel : les normes comptable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95320" indent="-417600" algn="just">
              <a:lnSpc>
                <a:spcPct val="90000"/>
              </a:lnSpc>
              <a:buClr>
                <a:srgbClr val="a50021"/>
              </a:buClr>
              <a:buFont typeface="Wingdings" charset="2"/>
              <a:buChar char="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13 normes établis par le 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comité des normes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 (sur les états financiers, les charges, les immobilisations, les dettes, etc.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895320" indent="-417600" algn="just">
              <a:lnSpc>
                <a:spcPct val="90000"/>
              </a:lnSpc>
              <a:buClr>
                <a:srgbClr val="a50021"/>
              </a:buClr>
              <a:buFont typeface="Wingdings" charset="2"/>
              <a:buChar char="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21 mai 2004 : 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approbation par arrêté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1250"/>
              </a:spcBef>
              <a:buClr>
                <a:srgbClr val="006666"/>
              </a:buClr>
              <a:buFont typeface="Arial"/>
              <a:buAutoNum type="arabicPeriod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a déclinaison des norme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95320" indent="-417600" algn="just">
              <a:lnSpc>
                <a:spcPct val="90000"/>
              </a:lnSpc>
              <a:buClr>
                <a:srgbClr val="a50021"/>
              </a:buClr>
              <a:buFont typeface="Wingdings" charset="2"/>
              <a:buChar char="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e 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plan de comptes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 par nature (PCE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895320" indent="-417600" algn="just">
              <a:lnSpc>
                <a:spcPct val="90000"/>
              </a:lnSpc>
              <a:buClr>
                <a:srgbClr val="a50021"/>
              </a:buClr>
              <a:buFont typeface="Wingdings" charset="2"/>
              <a:buChar char="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e recueil des 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instructions comptable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1250"/>
              </a:spcBef>
              <a:buClr>
                <a:srgbClr val="006666"/>
              </a:buClr>
              <a:buFont typeface="Arial"/>
              <a:buAutoNum type="arabicPeriod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a construction du bilan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95320" indent="-417600" algn="just">
              <a:lnSpc>
                <a:spcPct val="90000"/>
              </a:lnSpc>
              <a:buClr>
                <a:srgbClr val="a50021"/>
              </a:buClr>
              <a:buFont typeface="Wingdings" charset="2"/>
              <a:buChar char="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e recensement et la 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valorisation du parc immobilier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 (coût du marché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895320" indent="-417600" algn="just">
              <a:lnSpc>
                <a:spcPct val="90000"/>
              </a:lnSpc>
              <a:buClr>
                <a:srgbClr val="a50021"/>
              </a:buClr>
              <a:buFont typeface="Wingdings" charset="2"/>
              <a:buChar char="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es 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autres immobilisations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 corporelles et les stock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1250"/>
              </a:spcBef>
              <a:buClr>
                <a:srgbClr val="006666"/>
              </a:buClr>
              <a:buFont typeface="Arial"/>
              <a:buAutoNum type="arabicPeriod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Certification annuell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par la Cour des Comptes :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les comptes 2006 et 2007 certifiés par la Cour des Compte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avec 13 puis 12 réserves (dont 2 générales sur les systèmes d’information et le contrôle interne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8D3DF-3DFC-43D4-91E1-9F1F4E6FEE38}" type="slidenum">
              <a:t>19</a:t>
            </a:fld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La loi organique du 1</a:t>
            </a:r>
            <a:r>
              <a:rPr b="1" lang="pl-PL" sz="2600" spc="-1" strike="noStrike" baseline="30000">
                <a:solidFill>
                  <a:srgbClr val="ffffff"/>
                </a:solidFill>
                <a:latin typeface="Arial"/>
              </a:rPr>
              <a:t>er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 août 2001 relative aux lois de finances ( LOLF) en Franc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640" y="1699920"/>
            <a:ext cx="79279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spcBef>
                <a:spcPts val="29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Une nouvelle constitution financière pour l’Etat 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9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Une initiative parlementaire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9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Un accord politique trans-partisan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9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Un consensus avec le gouvernemen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76728-1233-4294-B8DA-9857A2ED7DCC}" type="slidenum">
              <a:t>2</a:t>
            </a:fld>
          </a:p>
        </p:txBody>
      </p:sp>
    </p:spTree>
  </p:cSld>
  <p:transition spd="med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6. L’accroissement du rôle du Parlemen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79279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 budget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plus lisibl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a discussion et le vote par grandes politiques publiques (mission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a discussion des crédits au premier euro, des emplois par ministère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Une information enrichie pour contrôler la dépense (PAP – annexes – RAP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Un débat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potentiellement plus rich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’élargissement du droit d’amendement : redéploiements entre programmes d’une même mission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En cours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’exécution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, un accès renforcé à l’information pour les commissions des finances (actes réglementaires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s pouvoirs d’investigations et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’audition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renforcés (recours à la Cour des Comptes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’importance nouvelle de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la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loi de règlement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qui intègre les comptes et les rapports annuels de performanc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9A9C7-ECBE-4183-B025-663B46188A1F}" type="slidenum">
              <a:t>20</a:t>
            </a:fld>
          </a:p>
        </p:txBody>
      </p:sp>
    </p:spTree>
  </p:cSld>
  <p:transition spd="med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295280" y="1600200"/>
            <a:ext cx="3581640" cy="49528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0000"/>
                </a:solidFill>
                <a:latin typeface="Arial"/>
              </a:rPr>
              <a:t>Jusqu'en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371600" y="5054400"/>
            <a:ext cx="3352680" cy="14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94% des crédits sont reconduits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quasi-automatiquement d'une anné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sur l'autre (services votés), sans remise en caus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L'essentiel des débats porte sur seulement 6% du budget généra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257800" y="5057280"/>
            <a:ext cx="3276720" cy="5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100% des crédits sont discutés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au Parlement par miss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257800" y="1600200"/>
            <a:ext cx="358128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0000"/>
                </a:solidFill>
                <a:latin typeface="Arial"/>
              </a:rPr>
              <a:t>Depuis le budget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5667480" y="2577960"/>
            <a:ext cx="2333520" cy="232416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1776240" y="2575080"/>
            <a:ext cx="2419560" cy="237780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1733400" y="2819520"/>
            <a:ext cx="533520" cy="228600"/>
          </a:xfrm>
          <a:custGeom>
            <a:avLst/>
            <a:gdLst/>
            <a:ahLst/>
            <a:rect l="l" t="t" r="r" b="b"/>
            <a:pathLst>
              <a:path w="288" h="96">
                <a:moveTo>
                  <a:pt x="192" y="48"/>
                </a:moveTo>
                <a:lnTo>
                  <a:pt x="288" y="0"/>
                </a:lnTo>
                <a:lnTo>
                  <a:pt x="0" y="0"/>
                </a:lnTo>
                <a:lnTo>
                  <a:pt x="0" y="96"/>
                </a:lnTo>
                <a:lnTo>
                  <a:pt x="192" y="96"/>
                </a:lnTo>
                <a:lnTo>
                  <a:pt x="288" y="0"/>
                </a:lnTo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381480" y="2581200"/>
            <a:ext cx="1353960" cy="285840"/>
          </a:xfrm>
          <a:custGeom>
            <a:avLst/>
            <a:gdLst/>
            <a:ahLst/>
            <a:rect l="l" t="t" r="r" b="b"/>
            <a:pathLst>
              <a:path w="912" h="192">
                <a:moveTo>
                  <a:pt x="0" y="0"/>
                </a:moveTo>
                <a:lnTo>
                  <a:pt x="48" y="96"/>
                </a:lnTo>
                <a:lnTo>
                  <a:pt x="336" y="96"/>
                </a:lnTo>
                <a:lnTo>
                  <a:pt x="432" y="192"/>
                </a:lnTo>
                <a:lnTo>
                  <a:pt x="912" y="192"/>
                </a:lnTo>
                <a:lnTo>
                  <a:pt x="912" y="0"/>
                </a:lnTo>
                <a:lnTo>
                  <a:pt x="0" y="0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429000" y="2057400"/>
            <a:ext cx="160020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esures nouvelles par ministère 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97 votes en 20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295280" y="2346480"/>
            <a:ext cx="121932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ervices votés : 1 seul v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315200" y="2438280"/>
            <a:ext cx="762120" cy="457200"/>
          </a:xfrm>
          <a:custGeom>
            <a:avLst/>
            <a:gdLst/>
            <a:ahLst/>
            <a:rect l="l" t="t" r="r" b="b"/>
            <a:pathLst>
              <a:path w="480" h="288">
                <a:moveTo>
                  <a:pt x="0" y="96"/>
                </a:moveTo>
                <a:lnTo>
                  <a:pt x="336" y="288"/>
                </a:lnTo>
                <a:lnTo>
                  <a:pt x="480" y="288"/>
                </a:lnTo>
                <a:lnTo>
                  <a:pt x="480" y="0"/>
                </a:lnTo>
                <a:lnTo>
                  <a:pt x="0" y="9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696080" y="2517840"/>
            <a:ext cx="106704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7 missions, 47 v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Un débat budgétaire enrichi et modernisé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F90F2-2FD2-4E18-ADA0-7E7015E36F0B}" type="slidenum">
              <a:t>21</a:t>
            </a:fld>
          </a:p>
        </p:txBody>
      </p:sp>
    </p:spTree>
  </p:cSld>
  <p:transition spd="med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7. Un nouveau système de responsabilité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 algn="just"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e pilotage par le responsable de programm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57080" indent="-27936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Après arbitrage mené par le directeur des affaires financières,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57080" indent="-27936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il dispose des crédits et les répartit pour les besoins de la gestion interne,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57080" indent="-27936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il s’engage sur la performance devant le Parlement : le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Projet annuel de performance,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57080" indent="-27936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il rend compte devant le Parlement : le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apport annuel</a:t>
            </a:r>
            <a:br>
              <a:rPr sz="2000"/>
            </a:b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e performance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285840" indent="-28584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s responsables de programme qui peuvent piloter plusieurs direction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285840" indent="-28584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Une responsabilité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«managériale», une rémunération au mérit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1114F-F11D-442A-A65B-ABDFF86EFE08}" type="slidenum">
              <a:t>22</a:t>
            </a:fld>
          </a:p>
        </p:txBody>
      </p:sp>
    </p:spTree>
  </p:cSld>
  <p:transition spd="med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8. </a:t>
            </a: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Une déconcentration de la gestion budgétai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es programmes nationaux se déclinent en</a:t>
            </a:r>
            <a:r>
              <a:rPr b="0" lang="pl-PL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budget opérationnel de programme (BOP)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(sur un périmètre ou un territoire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 plan d’action avec des objectifs et indicateurs</a:t>
            </a:r>
            <a:br>
              <a:rPr sz="2000"/>
            </a:b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 performance adaptés aux enjeux opérationnels des services déconcentré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 budget prévisionnel, détaillé par finalité et nature de dépense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 schéma d’organisation financièr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En gestion : le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esponsable de budget opérationnel de programm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Il dispose d’un budget opérationnel de programme.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Il s’engage et rend compte dans le cadre du dialogue de gestion au responsable de programme.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73D5F-5542-41A8-971C-44F41C8423C8}" type="slidenum">
              <a:t>23</a:t>
            </a:fld>
          </a:p>
        </p:txBody>
      </p:sp>
    </p:spTree>
  </p:cSld>
  <p:transition spd="med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9. L’allégement des contrôles du ministère des finance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spcBef>
                <a:spcPts val="499"/>
              </a:spcBef>
              <a:buClr>
                <a:srgbClr val="a50021"/>
              </a:buClr>
              <a:buFont typeface="Wingdings 3" charset="2"/>
              <a:buChar char="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Un contrôle budgétaire de soutenabilité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(décret du 27/01/05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Abandon du contrôle de régularité confié aux gestionnaire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 visa amont sur la programmation budgétaire initial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En cours de gestion : une modularité des contrôles avec un contrôle a priori en fonction des enjeux et des risque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s comptes-rendus de gestion trimestriels par les gestionnaire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spcBef>
                <a:spcPts val="2500"/>
              </a:spcBef>
              <a:buClr>
                <a:srgbClr val="a50021"/>
              </a:buClr>
              <a:buFont typeface="Wingdings 3" charset="2"/>
              <a:buChar char="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Un contrôle comptable du paiement de la dépense allégé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: hiérarchisé ou partenarial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spcBef>
                <a:spcPts val="2500"/>
              </a:spcBef>
              <a:buClr>
                <a:srgbClr val="a50021"/>
              </a:buClr>
              <a:buFont typeface="Wingdings 3" charset="2"/>
              <a:buChar char="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Mais un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contrôle interne comptabl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renforcé pour garantir la «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qualité comptabl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»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CD9C4-9458-4237-86DE-244C598D95E0}" type="slidenum">
              <a:t>24</a:t>
            </a:fld>
          </a:p>
        </p:txBody>
      </p:sp>
    </p:spTree>
  </p:cSld>
  <p:transition spd="med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Le développement des contrôles exercés par les ministères gestionnaire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Le développement du </a:t>
            </a:r>
            <a:r>
              <a:rPr b="0" lang="pl-PL" sz="2400" spc="-1" strike="noStrike" u="sng">
                <a:solidFill>
                  <a:srgbClr val="4d4d4d"/>
                </a:solidFill>
                <a:uFillTx/>
                <a:latin typeface="Arial"/>
              </a:rPr>
              <a:t>contrôle de gestion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 : «améliorer le rapport entre les moyens engagés et l’activité ou bien avec les résultats obtenus»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Un contrôle de gestion ministériel et par programme, et au niveau local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9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Le renforcement du </a:t>
            </a:r>
            <a:r>
              <a:rPr b="0" lang="pl-PL" sz="2400" spc="-1" strike="noStrike" u="sng">
                <a:solidFill>
                  <a:srgbClr val="4d4d4d"/>
                </a:solidFill>
                <a:uFillTx/>
                <a:latin typeface="Arial"/>
              </a:rPr>
              <a:t>contrôle interne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Conséquence de la réorganisation des ministères et de l’allégement des contrôles financiers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Mise en place d’un contrôle interne comptable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9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Le développement de </a:t>
            </a:r>
            <a:r>
              <a:rPr b="0" lang="pl-PL" sz="2400" spc="-1" strike="noStrike" u="sng">
                <a:solidFill>
                  <a:srgbClr val="4d4d4d"/>
                </a:solidFill>
                <a:uFillTx/>
                <a:latin typeface="Arial"/>
              </a:rPr>
              <a:t>l’audit interne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Activité externe menée par des équipes dédiées (inspections)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7BBFD-0E4D-4D07-A438-BA0AF359B2A2}" type="slidenum">
              <a:t>25</a:t>
            </a:fld>
          </a:p>
        </p:txBody>
      </p:sp>
    </p:spTree>
  </p:cSld>
  <p:transition spd="med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10. La mise en place de nouveaux systèmes d’informations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 algn="just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Un système provisoire dès 2006 mais peu satisfaisant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Un nouveau progiciel de gestion intégré (ERP) en construction (CHORUS) couvrant :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’ensemble des administrations centrales et déconcentrée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’ensemble des applications de dépenses, de recettes et toutes les comptabilité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Des infocentres de données permettant des restitution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Un levier de modernisation et d’amélioration de la productivité, précédé d’une «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réingénierie des processus financiers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» (23.000 licences au lieu de 45.000)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Un 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déploiement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progressif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 prévu entre 2009 et 2011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Un accompagnement indispensable dans le déploiement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C3179-01B5-45B0-9ED3-FA4C93BB6DE2}" type="slidenum">
              <a:t>26</a:t>
            </a:fld>
          </a:p>
        </p:txBody>
      </p:sp>
    </p:spTree>
  </p:cSld>
  <p:transition spd="med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55640" y="301680"/>
            <a:ext cx="7927920" cy="12556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En conclusion: le temps long de la réforme </a:t>
            </a:r>
            <a:br>
              <a:rPr sz="2600"/>
            </a:b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Les principales étapes de la réforme budgétaire : 2001-2007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24000" y="2421000"/>
            <a:ext cx="8351640" cy="1440"/>
          </a:xfrm>
          <a:prstGeom prst="line">
            <a:avLst/>
          </a:prstGeom>
          <a:ln cap="sq" w="76320">
            <a:solidFill>
              <a:srgbClr val="00ad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66560" y="1916280"/>
            <a:ext cx="79236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403280" y="1916280"/>
            <a:ext cx="79236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6160" y="1916280"/>
            <a:ext cx="7920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710160" y="1916280"/>
            <a:ext cx="7920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00720" y="1916280"/>
            <a:ext cx="79236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076720" y="1916280"/>
            <a:ext cx="79236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2916360" y="2490480"/>
            <a:ext cx="1440" cy="579240"/>
          </a:xfrm>
          <a:prstGeom prst="line">
            <a:avLst/>
          </a:prstGeom>
          <a:ln cap="sq" w="57240">
            <a:solidFill>
              <a:srgbClr val="00add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4932360" y="2490480"/>
            <a:ext cx="1440" cy="579240"/>
          </a:xfrm>
          <a:prstGeom prst="line">
            <a:avLst/>
          </a:prstGeom>
          <a:ln cap="sq" w="57240">
            <a:solidFill>
              <a:srgbClr val="00add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8317080" y="2490480"/>
            <a:ext cx="1440" cy="579240"/>
          </a:xfrm>
          <a:prstGeom prst="line">
            <a:avLst/>
          </a:prstGeom>
          <a:ln cap="sq" w="57240">
            <a:solidFill>
              <a:srgbClr val="00add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1027080" y="2490480"/>
            <a:ext cx="1800" cy="579240"/>
          </a:xfrm>
          <a:prstGeom prst="line">
            <a:avLst/>
          </a:prstGeom>
          <a:ln cap="sq" w="57240">
            <a:solidFill>
              <a:srgbClr val="00add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79440" y="3141720"/>
            <a:ext cx="1312920" cy="73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L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te par 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r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978200" y="3149640"/>
            <a:ext cx="1873080" cy="73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réation de la  Direction de la réforme budgéta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780000" y="3141720"/>
            <a:ext cx="180000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r>
              <a:rPr b="0" lang="pl-PL" sz="14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er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projet de loi de finances en mode LOL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bjectifs de performance / indicateurs de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580000" y="3135240"/>
            <a:ext cx="1943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pport Lambert/Migaud sur la mise en œuvre de la LOL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6 : 1</a:t>
            </a:r>
            <a:r>
              <a:rPr b="0" lang="fr-FR" sz="14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ère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loi de finances en mode LOLF &amp; débat parlementa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451640" y="3135240"/>
            <a:ext cx="1692360" cy="15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r>
              <a:rPr b="0" lang="pl-PL" sz="14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ers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rapports annuels de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ertification des comptes par la Cour des Comp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596360" y="1916280"/>
            <a:ext cx="7920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6372360" y="2490480"/>
            <a:ext cx="1440" cy="579240"/>
          </a:xfrm>
          <a:prstGeom prst="line">
            <a:avLst/>
          </a:prstGeom>
          <a:ln cap="sq" w="57240">
            <a:solidFill>
              <a:srgbClr val="00add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900000" y="5589720"/>
            <a:ext cx="2667240" cy="6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r>
              <a:rPr b="0" lang="pl-PL" sz="16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ère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étape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struire les fond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073400" y="5589720"/>
            <a:ext cx="1722600" cy="6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r>
              <a:rPr b="0" lang="pl-PL" sz="16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ème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étape :</a:t>
            </a:r>
            <a:r>
              <a:rPr b="0" lang="pl-PL" sz="1800" spc="-1" strike="noStrike">
                <a:solidFill>
                  <a:srgbClr val="000000"/>
                </a:solidFill>
                <a:latin typeface="Garamond"/>
                <a:ea typeface="ＭＳ Ｐゴシック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préfigu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659640" y="5589720"/>
            <a:ext cx="1890720" cy="6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</a:t>
            </a:r>
            <a:r>
              <a:rPr b="0" lang="pl-PL" sz="16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ème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étape :</a:t>
            </a:r>
            <a:r>
              <a:rPr b="0" lang="pl-PL" sz="1800" spc="-1" strike="noStrike">
                <a:solidFill>
                  <a:srgbClr val="000000"/>
                </a:solidFill>
                <a:latin typeface="Garamond"/>
                <a:ea typeface="ＭＳ Ｐゴシック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mise en œuvr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rot="5400000">
            <a:off x="2019240" y="4173480"/>
            <a:ext cx="431640" cy="2520720"/>
          </a:xfrm>
          <a:custGeom>
            <a:avLst/>
            <a:gdLst>
              <a:gd name="textAreaLeft" fmla="*/ 275760 w 431640"/>
              <a:gd name="textAreaRight" fmla="*/ 432000 w 431640"/>
              <a:gd name="textAreaTop" fmla="*/ 65520 h 2520720"/>
              <a:gd name="textAreaBottom" fmla="*/ 2455200 h 25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009e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rot="5400000">
            <a:off x="4754520" y="4173480"/>
            <a:ext cx="431640" cy="2520720"/>
          </a:xfrm>
          <a:custGeom>
            <a:avLst/>
            <a:gdLst>
              <a:gd name="textAreaLeft" fmla="*/ 275760 w 431640"/>
              <a:gd name="textAreaRight" fmla="*/ 432000 w 431640"/>
              <a:gd name="textAreaTop" fmla="*/ 65520 h 2520720"/>
              <a:gd name="textAreaBottom" fmla="*/ 2455200 h 25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009e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rot="5400000">
            <a:off x="7418160" y="4173480"/>
            <a:ext cx="431640" cy="2521080"/>
          </a:xfrm>
          <a:custGeom>
            <a:avLst/>
            <a:gdLst>
              <a:gd name="textAreaLeft" fmla="*/ 275760 w 431640"/>
              <a:gd name="textAreaRight" fmla="*/ 432000 w 431640"/>
              <a:gd name="textAreaTop" fmla="*/ 65520 h 2521080"/>
              <a:gd name="textAreaBottom" fmla="*/ 2455560 h 252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009e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372360" y="2492280"/>
            <a:ext cx="252072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uvelle agence de gestion des systèmes d’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0277D-6F4B-4946-B0D8-19A0FDA66A02}" type="slidenum">
              <a:t>27</a:t>
            </a:fld>
          </a:p>
        </p:txBody>
      </p:sp>
    </p:spTree>
  </p:cSld>
  <p:transition spd="med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e pilotage de la réform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5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Un pilotage assuré par le 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ministère des finances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La création d’un structure dédiée: 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la direction de la réforme budgétaire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, direction de projet  créée pour une durée limitée: 50 cadres de haut niveau aidé par des consultants pour :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définir les nouvelles règles budgétaires et comptables (en associant les directions du budget et de la comptabilité publique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assurer le pilotage interministériel de la réforme (comité des directeurs financiers des ministères, forum des responsables de  programme, animation de comités locaux de la réforme…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Une feuille de route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, un calendrier, des jalons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Une consultation permanente des commissions de finances du 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Parlemen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t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987F2-6A49-4148-886C-731111923C3A}" type="slidenum">
              <a:t>28</a:t>
            </a:fld>
          </a:p>
        </p:txBody>
      </p:sp>
    </p:spTree>
  </p:cSld>
  <p:transition spd="med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es enseignements de la mise en œuvr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79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 algn="just">
              <a:spcBef>
                <a:spcPts val="137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3920"/>
                <a:tab algn="l" pos="1768320"/>
                <a:tab algn="l" pos="2682720"/>
                <a:tab algn="l" pos="3597120"/>
                <a:tab algn="l" pos="4511520"/>
                <a:tab algn="l" pos="5425920"/>
                <a:tab algn="l" pos="6340320"/>
                <a:tab algn="l" pos="7254720"/>
                <a:tab algn="l" pos="8169120"/>
                <a:tab algn="l" pos="9083520"/>
                <a:tab algn="l" pos="999792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La nécessité d’une implication au plus haut niveau (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soutien politique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284040" indent="-284040" algn="just">
              <a:spcBef>
                <a:spcPts val="137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3920"/>
                <a:tab algn="l" pos="1768320"/>
                <a:tab algn="l" pos="2682720"/>
                <a:tab algn="l" pos="3597120"/>
                <a:tab algn="l" pos="4511520"/>
                <a:tab algn="l" pos="5425920"/>
                <a:tab algn="l" pos="6340320"/>
                <a:tab algn="l" pos="7254720"/>
                <a:tab algn="l" pos="8169120"/>
                <a:tab algn="l" pos="9083520"/>
                <a:tab algn="l" pos="999792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La formation des 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managers publics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 à la culture de responsabilité 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284040" indent="-284040" algn="just">
              <a:spcBef>
                <a:spcPts val="137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3920"/>
                <a:tab algn="l" pos="1768320"/>
                <a:tab algn="l" pos="2682720"/>
                <a:tab algn="l" pos="3597120"/>
                <a:tab algn="l" pos="4511520"/>
                <a:tab algn="l" pos="5425920"/>
                <a:tab algn="l" pos="6340320"/>
                <a:tab algn="l" pos="7254720"/>
                <a:tab algn="l" pos="8169120"/>
                <a:tab algn="l" pos="9083520"/>
                <a:tab algn="l" pos="999792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Une 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formation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 indispensable dans les ministères pour tous les agents quelque soit leur niveau  (formation de formateurs)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284040" indent="-284040" algn="just">
              <a:spcBef>
                <a:spcPts val="137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3920"/>
                <a:tab algn="l" pos="1768320"/>
                <a:tab algn="l" pos="2682720"/>
                <a:tab algn="l" pos="3597120"/>
                <a:tab algn="l" pos="4511520"/>
                <a:tab algn="l" pos="5425920"/>
                <a:tab algn="l" pos="6340320"/>
                <a:tab algn="l" pos="7254720"/>
                <a:tab algn="l" pos="8169120"/>
                <a:tab algn="l" pos="9083520"/>
                <a:tab algn="l" pos="999792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Le recours a des 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expérimentations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 pour s’approprier la réforme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284040" indent="-284040" algn="just">
              <a:spcBef>
                <a:spcPts val="137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3920"/>
                <a:tab algn="l" pos="1768320"/>
                <a:tab algn="l" pos="2682720"/>
                <a:tab algn="l" pos="3597120"/>
                <a:tab algn="l" pos="4511520"/>
                <a:tab algn="l" pos="5425920"/>
                <a:tab algn="l" pos="6340320"/>
                <a:tab algn="l" pos="7254720"/>
                <a:tab algn="l" pos="8169120"/>
                <a:tab algn="l" pos="9083520"/>
                <a:tab algn="l" pos="999792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Une 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communication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 externe et et interne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284040" indent="-284040" algn="just">
              <a:spcBef>
                <a:spcPts val="137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3920"/>
                <a:tab algn="l" pos="1768320"/>
                <a:tab algn="l" pos="2682720"/>
                <a:tab algn="l" pos="3597120"/>
                <a:tab algn="l" pos="4511520"/>
                <a:tab algn="l" pos="5425920"/>
                <a:tab algn="l" pos="6340320"/>
                <a:tab algn="l" pos="7254720"/>
                <a:tab algn="l" pos="8169120"/>
                <a:tab algn="l" pos="9083520"/>
                <a:tab algn="l" pos="999792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La nécessité d’une mise sous tension par le 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calendrier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8EF21-3D6C-45F6-84C1-AEB30DBCCAA5}" type="slidenum">
              <a:t>29</a:t>
            </a:fld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a LOLF doit répondre aux attentes ….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971720" y="1471680"/>
            <a:ext cx="344520" cy="372960"/>
          </a:xfrm>
          <a:prstGeom prst="downArrow">
            <a:avLst>
              <a:gd name="adj1" fmla="val 50000"/>
              <a:gd name="adj2" fmla="val 27064"/>
            </a:avLst>
          </a:prstGeom>
          <a:solidFill>
            <a:srgbClr val="000099"/>
          </a:solidFill>
          <a:ln cap="sq" w="316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98560" y="1879560"/>
            <a:ext cx="2519280" cy="20700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des élu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55640" y="3933720"/>
            <a:ext cx="280656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1160" indent="-281160"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81160"/>
                <a:tab algn="l" pos="1195560"/>
                <a:tab algn="l" pos="2109960"/>
                <a:tab algn="l" pos="3024360"/>
                <a:tab algn="l" pos="3938760"/>
                <a:tab algn="l" pos="4853160"/>
                <a:tab algn="l" pos="5767560"/>
                <a:tab algn="l" pos="6681960"/>
                <a:tab algn="l" pos="7596360"/>
                <a:tab algn="l" pos="8510760"/>
                <a:tab algn="l" pos="9425160"/>
                <a:tab algn="l" pos="1033956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Lisibilité budgétaire accrue et transparence dans l’exé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11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81160"/>
                <a:tab algn="l" pos="1195560"/>
                <a:tab algn="l" pos="2109960"/>
                <a:tab algn="l" pos="3024360"/>
                <a:tab algn="l" pos="3938760"/>
                <a:tab algn="l" pos="4853160"/>
                <a:tab algn="l" pos="5767560"/>
                <a:tab algn="l" pos="6681960"/>
                <a:tab algn="l" pos="7596360"/>
                <a:tab algn="l" pos="8510760"/>
                <a:tab algn="l" pos="9425160"/>
                <a:tab algn="l" pos="1033956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Meilleure affectation des ressources aux politiques publiques</a:t>
            </a: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467480" y="1471680"/>
            <a:ext cx="344520" cy="372960"/>
          </a:xfrm>
          <a:prstGeom prst="downArrow">
            <a:avLst>
              <a:gd name="adj1" fmla="val 50000"/>
              <a:gd name="adj2" fmla="val 27064"/>
            </a:avLst>
          </a:prstGeom>
          <a:solidFill>
            <a:srgbClr val="000099"/>
          </a:solidFill>
          <a:ln cap="sq" w="316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386400" y="1879560"/>
            <a:ext cx="2519640" cy="20700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des fonctionnair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443640" y="3930480"/>
            <a:ext cx="252108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4040" indent="-284040"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Plus grande liberté et responsabilité accrue des acteurs de l’adminis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Bef>
                <a:spcPts val="11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Des objectifs clai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13120" y="1471680"/>
            <a:ext cx="344520" cy="372960"/>
          </a:xfrm>
          <a:prstGeom prst="downArrow">
            <a:avLst>
              <a:gd name="adj1" fmla="val 50000"/>
              <a:gd name="adj2" fmla="val 27064"/>
            </a:avLst>
          </a:prstGeom>
          <a:solidFill>
            <a:srgbClr val="000099"/>
          </a:solidFill>
          <a:ln cap="sq" w="316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492360" y="3933720"/>
            <a:ext cx="2746440" cy="29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4040" indent="-284040"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Citoyens : meilleure compréhension de l’utilisation des impô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 algn="just"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Usagers : des services publics mieux adaptés aux beso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Contribuables : meilleure utilisation des impô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645000" y="1879560"/>
            <a:ext cx="2519280" cy="20700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99"/>
                </a:solidFill>
                <a:latin typeface="Arial Narrow"/>
              </a:rPr>
              <a:t>des citoye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9180C-7434-4EE7-8616-476DE20A57DC}" type="slidenum">
              <a:t>3</a:t>
            </a:fld>
          </a:p>
        </p:txBody>
      </p:sp>
    </p:spTree>
  </p:cSld>
  <p:transition spd="med"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Des premiers résultats encourageant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a France a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especté les dates limite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fixées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spcBef>
                <a:spcPts val="1125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1</a:t>
            </a:r>
            <a:r>
              <a:rPr b="0" lang="pl-PL" sz="1800" spc="-1" strike="noStrike" baseline="30000">
                <a:solidFill>
                  <a:srgbClr val="4d4d4d"/>
                </a:solidFill>
                <a:latin typeface="Arial"/>
              </a:rPr>
              <a:t>ère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 loi de finances voté en mode LOLF en 2006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es 1ers comptes 2006 certifiés par la Cour des Compte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a naissance d’une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nouvelle forme de responsabilité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, encourageant les ministères à redéfinir leurs objectifs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En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éléguant les responsabilité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, le nouveau système encourage l’amélioration de la qualité du service public et une meilleure utilisation des ressources publiques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écloisonnement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des services entre les opérationnels, les financiers et les ressources humaines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 enrichissement réel du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ialogue de gestion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mais une déclinaison de la performance à améliorer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C69E8-4222-4899-889F-B289B65E34DC}" type="slidenum">
              <a:t>30</a:t>
            </a:fld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Malgré des débuts difficile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Une phase d’apprentissag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: nouveaux standards, nouveaux outils, nouveau calendrier…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s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marges de manœuvre encore faible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: des faibles redéploiements, des fléchages de crédits par les administrations centrales …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e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charge de travail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plus complexe et plus grande (plus d'informations, de procédures d'engagement de dépense, etc.)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s soucis concernant la disponibilité et l'exactitude de certains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outil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, notamment les systèmes intégrés de gestion. Un débat non tranché sur le partage des gains de productivité ( peu de contrats pluriannuels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a50021"/>
              </a:buClr>
              <a:buFont typeface="Wingdings 3" charset="2"/>
              <a:buChar char="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Le problème de l’application de la réforme en  période de déficit budgétair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0E0DC-60A6-40AF-B271-1A911EEFDD69}" type="slidenum">
              <a:t>31</a:t>
            </a:fld>
          </a:p>
        </p:txBody>
      </p:sp>
    </p:spTree>
  </p:cSld>
  <p:transition spd="med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es défis de plus long term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792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90000"/>
              </a:lnSpc>
              <a:spcBef>
                <a:spcPts val="1500"/>
              </a:spcBef>
              <a:buClr>
                <a:srgbClr val="a50021"/>
              </a:buClr>
              <a:buFont typeface="Wingdings 3" charset="2"/>
              <a:buChar char="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Un défi politique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 : la réalité du rôle du Parlemen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1500"/>
              </a:spcBef>
              <a:buClr>
                <a:srgbClr val="a50021"/>
              </a:buClr>
              <a:buFont typeface="Wingdings 3" charset="2"/>
              <a:buChar char="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Un défi  administratif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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a cohérence entre les périmètres des programmes importants (100) et les compétences des administrations centrales (200 directions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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es relations entre les administrations centrales et les services déconcentré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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es relations entre les acteurs : ministère des finances/ ministères gestionnaires ; responsables de programmes opérationnels /directions support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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Incitations pour réaliser les résultats et améliorer la gestion des ressources humaines (carrière, salaires, bonifications, etc.)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1500"/>
              </a:spcBef>
              <a:buClr>
                <a:srgbClr val="a50021"/>
              </a:buClr>
              <a:buFont typeface="Wingdings 3" charset="2"/>
              <a:buChar char="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Un défi culturel 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: le passage d’une culture de moyens et de régularité à une culture de résultats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1500"/>
              </a:spcBef>
              <a:buClr>
                <a:srgbClr val="a50021"/>
              </a:buClr>
              <a:buFont typeface="Wingdings 3" charset="2"/>
              <a:buChar char="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Un défi technique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 : améliorer les systèmes d'information pour la qualité et la fiabilité des données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438280" y="6489720"/>
            <a:ext cx="495324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Conférence cofinancée par l'Union Européenn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dans le cadre du Fond Social Europé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rcRect l="11527" t="21188" r="11121" b="21855"/>
          <a:stretch/>
        </p:blipFill>
        <p:spPr>
          <a:xfrm>
            <a:off x="2209680" y="6531120"/>
            <a:ext cx="914400" cy="326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4" name=""/>
          <p:cNvGraphicFramePr/>
          <p:nvPr/>
        </p:nvGraphicFramePr>
        <p:xfrm>
          <a:off x="6629400" y="6548400"/>
          <a:ext cx="838080" cy="309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629400" y="6548400"/>
                    <a:ext cx="83808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8595B-6BA0-4177-9596-B38B4ADA161A}" type="slidenum">
              <a:t>32</a:t>
            </a:fld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Plusieurs réformes dans un texte solenn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 algn="just">
              <a:spcBef>
                <a:spcPts val="1250"/>
              </a:spcBef>
              <a:buClr>
                <a:srgbClr val="a50021"/>
              </a:buClr>
              <a:buFont typeface="Wingdings 3" charset="2"/>
              <a:buChar char="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Une nouvelle 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nomenclature budgétair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dans la discussion, le vote et l’exécution des lois de finances pour présenter 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les finalités de la dépens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spcBef>
                <a:spcPts val="1250"/>
              </a:spcBef>
              <a:buClr>
                <a:srgbClr val="a50021"/>
              </a:buClr>
              <a:buFont typeface="Wingdings 3" charset="2"/>
              <a:buChar char="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Un budget orienté vers les résultats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avec des objectifs et des indicateurs de 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performanc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pour une permettre une nouvelle gestion publique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spcBef>
                <a:spcPts val="1250"/>
              </a:spcBef>
              <a:buClr>
                <a:srgbClr val="a50021"/>
              </a:buClr>
              <a:buFont typeface="Wingdings 3" charset="2"/>
              <a:buChar char="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Des comptes plus transparents et plus précis basés sur la 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comptabilité en droits constatés («accrual»)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et l'analyse des coûts, donnant aux gestionnaires de nouveaux outils pour gérer leurs dépense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spcBef>
                <a:spcPts val="1250"/>
              </a:spcBef>
              <a:buClr>
                <a:srgbClr val="a50021"/>
              </a:buClr>
              <a:buFont typeface="Wingdings 3" charset="2"/>
              <a:buChar char="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Un nouveau système de gouvernance budgétaire et de procédure budgétaire: une collégialité gouvernementale et un rôle plus actif du 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Parlement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dans l’autorisation et le contrôle des dépense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152A6-A78E-41AA-AF47-FDB2C68CA089}" type="slidenum">
              <a:t>4</a:t>
            </a:fld>
          </a:p>
        </p:txBody>
      </p: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1. La nouvelle architecture budgétair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3249720" y="2209320"/>
            <a:ext cx="5892840" cy="3208320"/>
            <a:chOff x="3249720" y="2209320"/>
            <a:chExt cx="5892840" cy="3208320"/>
          </a:xfrm>
        </p:grpSpPr>
        <p:sp>
          <p:nvSpPr>
            <p:cNvPr id="116" name=""/>
            <p:cNvSpPr/>
            <p:nvPr/>
          </p:nvSpPr>
          <p:spPr>
            <a:xfrm>
              <a:off x="5238720" y="2209320"/>
              <a:ext cx="2306520" cy="75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4000" spc="-1" strike="noStrike">
                  <a:solidFill>
                    <a:srgbClr val="000000"/>
                  </a:solidFill>
                  <a:latin typeface="Arial"/>
                </a:rPr>
                <a:t>Mission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7" name=""/>
            <p:cNvCxnSpPr/>
            <p:nvPr/>
          </p:nvCxnSpPr>
          <p:spPr>
            <a:xfrm rot="5400000">
              <a:off x="5938920" y="3431160"/>
              <a:ext cx="926280" cy="6840"/>
            </a:xfrm>
            <a:prstGeom prst="bentConnector3">
              <a:avLst>
                <a:gd name="adj1" fmla="val 50000"/>
              </a:avLst>
            </a:prstGeom>
            <a:ln cap="sq" w="76320">
              <a:solidFill>
                <a:srgbClr val="000099"/>
              </a:solidFill>
              <a:miter/>
            </a:ln>
          </p:spPr>
        </p:cxnSp>
        <p:sp>
          <p:nvSpPr>
            <p:cNvPr id="118" name=""/>
            <p:cNvSpPr/>
            <p:nvPr/>
          </p:nvSpPr>
          <p:spPr>
            <a:xfrm>
              <a:off x="3630600" y="3888720"/>
              <a:ext cx="152244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Arial"/>
                </a:rPr>
                <a:t>Programm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624640" y="3888720"/>
              <a:ext cx="152388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Arial"/>
                </a:rPr>
                <a:t>Programm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620120" y="3888720"/>
              <a:ext cx="152244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Arial"/>
                </a:rPr>
                <a:t>Programm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1" name=""/>
            <p:cNvCxnSpPr>
              <a:stCxn id="116" idx="2"/>
              <a:endCxn id="118" idx="0"/>
            </p:cNvCxnSpPr>
            <p:nvPr/>
          </p:nvCxnSpPr>
          <p:spPr>
            <a:xfrm rot="5400000">
              <a:off x="4929120" y="2424600"/>
              <a:ext cx="924480" cy="2002680"/>
            </a:xfrm>
            <a:prstGeom prst="bentConnector3">
              <a:avLst>
                <a:gd name="adj1" fmla="val 49980"/>
              </a:avLst>
            </a:prstGeom>
            <a:ln cap="sq" w="76320">
              <a:solidFill>
                <a:srgbClr val="000099"/>
              </a:solidFill>
              <a:miter/>
            </a:ln>
          </p:spPr>
        </p:cxnSp>
        <p:cxnSp>
          <p:nvCxnSpPr>
            <p:cNvPr id="122" name=""/>
            <p:cNvCxnSpPr>
              <a:stCxn id="116" idx="2"/>
              <a:endCxn id="120" idx="0"/>
            </p:cNvCxnSpPr>
            <p:nvPr/>
          </p:nvCxnSpPr>
          <p:spPr>
            <a:xfrm flipH="1" rot="16200000">
              <a:off x="6923520" y="2431800"/>
              <a:ext cx="924480" cy="1987920"/>
            </a:xfrm>
            <a:prstGeom prst="bentConnector3">
              <a:avLst>
                <a:gd name="adj1" fmla="val 49980"/>
              </a:avLst>
            </a:prstGeom>
            <a:ln cap="sq" w="76320">
              <a:solidFill>
                <a:srgbClr val="000099"/>
              </a:solidFill>
              <a:miter/>
            </a:ln>
          </p:spPr>
        </p:cxnSp>
        <p:sp>
          <p:nvSpPr>
            <p:cNvPr id="123" name=""/>
            <p:cNvSpPr/>
            <p:nvPr/>
          </p:nvSpPr>
          <p:spPr>
            <a:xfrm>
              <a:off x="5396040" y="5029920"/>
              <a:ext cx="900000" cy="38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Arial"/>
                </a:rPr>
                <a:t>Ac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59200" y="5029920"/>
              <a:ext cx="879480" cy="38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Arial"/>
                </a:rPr>
                <a:t>Ac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21320" y="5029920"/>
              <a:ext cx="790560" cy="38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Arial"/>
                </a:rPr>
                <a:t>Ac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249720" y="5028480"/>
              <a:ext cx="833400" cy="38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Arial"/>
                </a:rPr>
                <a:t>Ac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7" name=""/>
            <p:cNvCxnSpPr>
              <a:stCxn id="118" idx="2"/>
              <a:endCxn id="126" idx="0"/>
            </p:cNvCxnSpPr>
            <p:nvPr/>
          </p:nvCxnSpPr>
          <p:spPr>
            <a:xfrm rot="5400000">
              <a:off x="3683520" y="4320360"/>
              <a:ext cx="691200" cy="727560"/>
            </a:xfrm>
            <a:prstGeom prst="bentConnector3">
              <a:avLst>
                <a:gd name="adj1" fmla="val 49973"/>
              </a:avLst>
            </a:prstGeom>
            <a:ln cap="sq" w="28440">
              <a:solidFill>
                <a:srgbClr val="ff9900"/>
              </a:solidFill>
              <a:miter/>
            </a:ln>
          </p:spPr>
        </p:cxnSp>
        <p:cxnSp>
          <p:nvCxnSpPr>
            <p:cNvPr id="128" name=""/>
            <p:cNvCxnSpPr>
              <a:stCxn id="118" idx="2"/>
              <a:endCxn id="124" idx="0"/>
            </p:cNvCxnSpPr>
            <p:nvPr/>
          </p:nvCxnSpPr>
          <p:spPr>
            <a:xfrm rot="5400000">
              <a:off x="3999240" y="4637880"/>
              <a:ext cx="692640" cy="94320"/>
            </a:xfrm>
            <a:prstGeom prst="bentConnector3">
              <a:avLst>
                <a:gd name="adj1" fmla="val 49973"/>
              </a:avLst>
            </a:prstGeom>
            <a:ln cap="sq" w="28440">
              <a:solidFill>
                <a:srgbClr val="ff9900"/>
              </a:solidFill>
              <a:miter/>
            </a:ln>
          </p:spPr>
        </p:cxnSp>
        <p:cxnSp>
          <p:nvCxnSpPr>
            <p:cNvPr id="129" name=""/>
            <p:cNvCxnSpPr>
              <a:stCxn id="118" idx="2"/>
              <a:endCxn id="123" idx="0"/>
            </p:cNvCxnSpPr>
            <p:nvPr/>
          </p:nvCxnSpPr>
          <p:spPr>
            <a:xfrm flipH="1" rot="16200000">
              <a:off x="4772160" y="3958200"/>
              <a:ext cx="692640" cy="1453320"/>
            </a:xfrm>
            <a:prstGeom prst="bentConnector3">
              <a:avLst>
                <a:gd name="adj1" fmla="val 49973"/>
              </a:avLst>
            </a:prstGeom>
            <a:ln cap="sq" w="28440">
              <a:solidFill>
                <a:srgbClr val="ff9900"/>
              </a:solidFill>
              <a:miter/>
            </a:ln>
          </p:spPr>
        </p:cxnSp>
        <p:cxnSp>
          <p:nvCxnSpPr>
            <p:cNvPr id="130" name=""/>
            <p:cNvCxnSpPr>
              <a:stCxn id="118" idx="2"/>
              <a:endCxn id="125" idx="0"/>
            </p:cNvCxnSpPr>
            <p:nvPr/>
          </p:nvCxnSpPr>
          <p:spPr>
            <a:xfrm flipH="1" rot="16200000">
              <a:off x="4357800" y="4372560"/>
              <a:ext cx="692640" cy="624600"/>
            </a:xfrm>
            <a:prstGeom prst="bentConnector3">
              <a:avLst>
                <a:gd name="adj1" fmla="val 49973"/>
              </a:avLst>
            </a:prstGeom>
            <a:ln cap="sq" w="28440">
              <a:solidFill>
                <a:srgbClr val="ff9900"/>
              </a:solidFill>
              <a:miter/>
            </a:ln>
          </p:spPr>
        </p:cxnSp>
      </p:grpSp>
      <p:sp>
        <p:nvSpPr>
          <p:cNvPr id="131" name=""/>
          <p:cNvSpPr/>
          <p:nvPr/>
        </p:nvSpPr>
        <p:spPr>
          <a:xfrm>
            <a:off x="609480" y="3772080"/>
            <a:ext cx="2667240" cy="1828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80880" y="4838760"/>
            <a:ext cx="289584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Ges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10800000">
            <a:off x="611280" y="3735360"/>
            <a:ext cx="2666880" cy="419040"/>
          </a:xfrm>
          <a:prstGeom prst="triangle">
            <a:avLst>
              <a:gd name="adj" fmla="val 50000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09480" y="2171880"/>
            <a:ext cx="2667240" cy="16002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61760" y="2400480"/>
            <a:ext cx="2228040" cy="6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Discussion et vote </a:t>
            </a:r>
            <a:br>
              <a:rPr sz="1800"/>
            </a:b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au Parl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1560" y="3733920"/>
            <a:ext cx="1491840" cy="6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Autoris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Exé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5A6AA-E133-47A4-AF73-EBC5FC72315E}" type="slidenum">
              <a:t>5</a:t>
            </a:fld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La mission : l’expression des choix politique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35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32 missions pour le budget généra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L’identification de politiques publiques cohérentes : «Une mission comprend un ensemble de programmes concourant à une politique publique définie»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Elle est l'unité de vote du Parlement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elle regroupe un ensemble de programmes,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e Parlement peut réallouer les crédits entre programmes, au sein d'une mission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Elle peut être ministérielle ou interministérielle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8 missions interministérielles,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exemple : la mission «Recherche» qui concerne 6 ministère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151A9-CDD0-4D1D-B3FB-FE7821BD058B}" type="slidenum">
              <a:t>6</a:t>
            </a:fld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"/>
          <p:cNvGrpSpPr/>
          <p:nvPr/>
        </p:nvGrpSpPr>
        <p:grpSpPr>
          <a:xfrm>
            <a:off x="826920" y="1928160"/>
            <a:ext cx="7858440" cy="4674960"/>
            <a:chOff x="826920" y="1928160"/>
            <a:chExt cx="7858440" cy="4674960"/>
          </a:xfrm>
        </p:grpSpPr>
        <p:sp>
          <p:nvSpPr>
            <p:cNvPr id="140" name=""/>
            <p:cNvSpPr/>
            <p:nvPr/>
          </p:nvSpPr>
          <p:spPr>
            <a:xfrm>
              <a:off x="7153200" y="2139480"/>
              <a:ext cx="1522440" cy="78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Enseigne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Supérieur 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Recherch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26920" y="1928160"/>
              <a:ext cx="6105600" cy="1209960"/>
            </a:xfrm>
            <a:prstGeom prst="rect">
              <a:avLst/>
            </a:prstGeom>
            <a:solidFill>
              <a:srgbClr val="ffffff"/>
            </a:solidFill>
            <a:ln cap="sq"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Formation supérieure et recherche universitai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Vie étudian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Garamond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echerches scientifiques et technologiques pluridisciplinair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echerche dans le domaine de la gestion des milieux et des ressourc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echerche spatia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rot="5400000">
              <a:off x="6890400" y="2494440"/>
              <a:ext cx="298440" cy="7488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26920" y="3382560"/>
              <a:ext cx="6105600" cy="357480"/>
            </a:xfrm>
            <a:prstGeom prst="rect">
              <a:avLst/>
            </a:prstGeom>
            <a:solidFill>
              <a:srgbClr val="ffffff"/>
            </a:solidFill>
            <a:ln cap="sq"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echerche industriel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153200" y="3136680"/>
              <a:ext cx="1522440" cy="84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Économie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Industrie et</a:t>
              </a:r>
              <a:br>
                <a:rPr sz="1400"/>
              </a:b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Emplo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5400000">
              <a:off x="6890400" y="3521880"/>
              <a:ext cx="298440" cy="7488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26920" y="3889080"/>
              <a:ext cx="6105600" cy="996840"/>
            </a:xfrm>
            <a:prstGeom prst="rect">
              <a:avLst/>
            </a:prstGeom>
            <a:solidFill>
              <a:srgbClr val="ffffff"/>
            </a:solidFill>
            <a:ln cap="sq"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Garamond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echerche dans le domaine des risques et des pollutio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echerche dans le domaine de l'énergi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echerche dans le domaine des transports, de l'équipement et de l'habita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153200" y="3889080"/>
              <a:ext cx="1522440" cy="99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Écologie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Développe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Aménagement durab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rot="5400000">
              <a:off x="6890400" y="4350600"/>
              <a:ext cx="298440" cy="7488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153200" y="5016600"/>
              <a:ext cx="1522440" cy="3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Défen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26920" y="5014800"/>
              <a:ext cx="6105600" cy="357480"/>
            </a:xfrm>
            <a:prstGeom prst="rect">
              <a:avLst/>
            </a:prstGeom>
            <a:solidFill>
              <a:srgbClr val="ffffff"/>
            </a:solidFill>
            <a:ln cap="sq"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Garamond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echerche duale (civile et militaire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5400000">
              <a:off x="6890400" y="5157360"/>
              <a:ext cx="298440" cy="7488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26920" y="6245640"/>
              <a:ext cx="6105600" cy="357480"/>
            </a:xfrm>
            <a:prstGeom prst="rect">
              <a:avLst/>
            </a:prstGeom>
            <a:solidFill>
              <a:srgbClr val="ffffff"/>
            </a:solidFill>
            <a:ln cap="sq"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Garamond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Enseignement supérieur et recherche agrico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153200" y="6245640"/>
              <a:ext cx="1522440" cy="3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Agricultu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rot="5400000">
              <a:off x="6890400" y="6389640"/>
              <a:ext cx="298440" cy="7488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162920" y="5618520"/>
              <a:ext cx="1522440" cy="3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Cultu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36640" y="5615280"/>
              <a:ext cx="6107040" cy="357480"/>
            </a:xfrm>
            <a:prstGeom prst="rect">
              <a:avLst/>
            </a:prstGeom>
            <a:solidFill>
              <a:srgbClr val="ffffff"/>
            </a:solidFill>
            <a:ln cap="sq"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Garamond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echerche culturelle et culture scientifiqu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rot="5400000">
              <a:off x="6899760" y="5759640"/>
              <a:ext cx="298440" cy="7452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La mission « Recherche et enseignement supérieur »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12 programmes / 6 ministères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2D00A-816A-4074-A17D-10EAC4212583}" type="slidenum">
              <a:t>7</a:t>
            </a:fld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Le programme : cadre d’autorisation et de gestion des politiques publique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792792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700"/>
              </a:spcBef>
              <a:spcAft>
                <a:spcPts val="3501"/>
              </a:spcAft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130 programmes pour le budget généra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Le programme regroupe les crédits (quelle qu’en soit la nature) destinés à mettre en œuvre une action ou un ensemble cohérent d'actions (600)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1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Il relève d'un seul ministre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1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Unité de spécialité des crédits et de définition des objectifs et indicateurs de résultats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1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Pas de budgétisation analytique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1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Il nécessite un pilotage qui fait apparaître de nouvelles fonctions managériales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371600" y="204840"/>
            <a:ext cx="7010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055520" y="204840"/>
            <a:ext cx="765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3D210-82A2-4905-8C80-1D45EBBBEF89}" type="slidenum">
              <a:t>8</a:t>
            </a:fld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5181480" y="2967120"/>
            <a:ext cx="3657600" cy="534960"/>
          </a:xfrm>
          <a:prstGeom prst="rect">
            <a:avLst/>
          </a:prstGeom>
          <a:solidFill>
            <a:srgbClr val="0099ff">
              <a:alpha val="50000"/>
            </a:srgbClr>
          </a:solidFill>
          <a:ln cap="sq" w="1908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Administration pénitenti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181480" y="5110200"/>
            <a:ext cx="3657600" cy="998640"/>
          </a:xfrm>
          <a:prstGeom prst="rect">
            <a:avLst/>
          </a:prstGeom>
          <a:solidFill>
            <a:srgbClr val="0099ff">
              <a:alpha val="50000"/>
            </a:srgbClr>
          </a:solidFill>
          <a:ln cap="sq" w="1908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Conduite et pilotage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la politique de la jus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et organismes rattach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181480" y="2349360"/>
            <a:ext cx="3657600" cy="457200"/>
          </a:xfrm>
          <a:prstGeom prst="rect">
            <a:avLst/>
          </a:prstGeom>
          <a:solidFill>
            <a:srgbClr val="0099ff">
              <a:alpha val="50000"/>
            </a:srgbClr>
          </a:solidFill>
          <a:ln cap="sq" w="1908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Justice judici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81480" y="3662280"/>
            <a:ext cx="3657600" cy="744480"/>
          </a:xfrm>
          <a:prstGeom prst="rect">
            <a:avLst/>
          </a:prstGeom>
          <a:solidFill>
            <a:srgbClr val="0099ff">
              <a:alpha val="50000"/>
            </a:srgbClr>
          </a:solidFill>
          <a:ln cap="sq" w="1908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Protection judiciaire </a:t>
            </a:r>
            <a:br>
              <a:rPr sz="2000"/>
            </a:b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de la jeunes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181480" y="4567320"/>
            <a:ext cx="3657600" cy="382680"/>
          </a:xfrm>
          <a:prstGeom prst="rect">
            <a:avLst/>
          </a:prstGeom>
          <a:solidFill>
            <a:srgbClr val="0099ff">
              <a:alpha val="50000"/>
            </a:srgbClr>
          </a:solidFill>
          <a:ln cap="sq" w="1908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Accès au droit et à la jus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a globalisation des crédits</a:t>
            </a:r>
            <a:br>
              <a:rPr sz="3000"/>
            </a:br>
            <a:r>
              <a:rPr b="1" lang="pl-PL" sz="2700" spc="-1" strike="noStrike">
                <a:solidFill>
                  <a:srgbClr val="ffffff"/>
                </a:solidFill>
                <a:latin typeface="Arial"/>
              </a:rPr>
              <a:t>L’exemple de la mission «justice»</a:t>
            </a:r>
            <a:endParaRPr b="1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92200" y="1484280"/>
            <a:ext cx="4267080" cy="48974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a50021"/>
                </a:solidFill>
                <a:latin typeface="Arial"/>
              </a:rPr>
              <a:t>Avant : 30 chapit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a50021"/>
                </a:solidFill>
                <a:latin typeface="Arial"/>
              </a:rPr>
              <a:t>160 articles de prév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Titre III - Moyens des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Personnel - rémunérations d'activit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Personnel en retraite - pensions et alloc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Personnel en activité et en retraite - charges soci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Matériel et fonctionnement des serv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Subventions de fonctionn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Dépenses diver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Titre IV - Interventions publiq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Interventions politiques et administrativ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Actions sociale - assistance et solidarit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Titre V - Investissements exécutés par l'Ét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Équipement administratifs et div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Titre VI - Subventions d'investissement accordées par l'Ét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Équipement culturel et soc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95840" y="3044880"/>
            <a:ext cx="380880" cy="1600200"/>
          </a:xfrm>
          <a:prstGeom prst="rightArrow">
            <a:avLst>
              <a:gd name="adj1" fmla="val 71824"/>
              <a:gd name="adj2" fmla="val 50833"/>
            </a:avLst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148360" y="1679400"/>
            <a:ext cx="36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a50021"/>
                </a:solidFill>
                <a:latin typeface="Arial"/>
              </a:rPr>
              <a:t>Après : 5 program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A1634-9509-43D9-B16D-E5D191F9D5D2}" type="slidenum">
              <a:t>9</a:t>
            </a:fld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0T10:25:37Z</dcterms:created>
  <dc:creator>MINEFI</dc:creator>
  <dc:description/>
  <dc:language>en-US</dc:language>
  <cp:lastModifiedBy>KAS</cp:lastModifiedBy>
  <dcterms:modified xsi:type="dcterms:W3CDTF">2009-02-05T12:50:16Z</dcterms:modified>
  <cp:revision>168</cp:revision>
  <dc:subject/>
  <dc:title>La gestion de la réforme budgétaire </dc:title>
</cp:coreProperties>
</file>