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D1B8A-E20F-4057-A756-DC08FC36E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C8077-0077-4645-8CC0-4766DE5118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ACA39-DF4C-4191-9704-F86C4C870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82F62-4F98-4976-AC7F-999664DF3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50BB7-4E00-4787-B810-3FEB971813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8C83D-AE28-40CA-BE85-A56389C3E3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751A8-559B-420E-83C1-CEA5238A78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7F4EA-E3C0-48C4-BD39-4D028EA3BE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0CEFC-FAFB-4CEB-8652-BF18031A2A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1A1E7-BF77-4B90-8B36-5F9B5C5CE4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7050A-B8FF-49A4-B4C7-96F127DAF6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A2430-A5FC-4175-B6EB-383CCBD983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DAA12B-7DE3-4C6C-9E99-D34A3393E1BC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ervice-public.fr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6920" y="1412640"/>
            <a:ext cx="72392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kl wykładów</a:t>
            </a:r>
            <a:r>
              <a:rPr b="0" lang="fr-FR" sz="3400" spc="-1" strike="noStrike">
                <a:solidFill>
                  <a:srgbClr val="ffffff"/>
                </a:solidFill>
                <a:latin typeface="Arial"/>
              </a:rPr>
              <a:t>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Od modernizacji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do reformy państwa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we Francji </a:t>
            </a:r>
            <a:br>
              <a:rPr sz="3800"/>
            </a:br>
            <a:br>
              <a:rPr sz="3400"/>
            </a:b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erstwo Budżetu</a:t>
            </a:r>
            <a:r>
              <a:rPr b="0" lang="fr-FR" sz="28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Rachunków Publiczn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 Służby Cywilnej</a:t>
            </a:r>
            <a:r>
              <a:rPr b="0" lang="fr-FR" sz="2800" spc="-1" strike="noStrike">
                <a:solidFill>
                  <a:srgbClr val="ffffff"/>
                </a:solidFill>
                <a:latin typeface="Arial Narrow"/>
              </a:rPr>
              <a:t> -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ary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0360" y="6016680"/>
            <a:ext cx="30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arszawa</a:t>
            </a: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, 11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grudnia</a:t>
            </a: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6477120"/>
            <a:ext cx="670536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190512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6324480" y="654840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654840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87280" y="1197000"/>
            <a:ext cx="8530920" cy="5668200"/>
            <a:chOff x="287280" y="1197000"/>
            <a:chExt cx="8530920" cy="5668200"/>
          </a:xfrm>
        </p:grpSpPr>
        <p:sp>
          <p:nvSpPr>
            <p:cNvPr id="149" name=""/>
            <p:cNvSpPr/>
            <p:nvPr/>
          </p:nvSpPr>
          <p:spPr>
            <a:xfrm>
              <a:off x="749160" y="5113440"/>
              <a:ext cx="2937240" cy="15397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66680" y="5397480"/>
              <a:ext cx="23119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Każda administracja oddaje do dyspozycji użytkownika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informacje i dokumenty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«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surowe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87280" y="1342800"/>
              <a:ext cx="5452200" cy="468468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41280" y="1197000"/>
              <a:ext cx="261792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W kierunku administracji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skoncentrowanej na użytkownik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560" y="3560760"/>
              <a:ext cx="2935800" cy="15397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70640" y="3844800"/>
              <a:ext cx="2311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Łańcuch obróbki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 «</a:t>
              </a: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on line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» </a:t>
              </a: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skłania do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ponownego przemyślenia procesów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,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organizacji i zawod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24680" y="2082960"/>
              <a:ext cx="2759400" cy="140148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1120" y="2368440"/>
              <a:ext cx="2311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Administracja zwraca się w stronę użytkownika, aby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lepiej spełniać jego oczekiwan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3680" y="3390840"/>
              <a:ext cx="1982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Wady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i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«auto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centrycznej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»: </a:t>
              </a: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złożoność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br>
                <a:rPr sz="1600"/>
              </a:b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terminy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94520" y="5261040"/>
              <a:ext cx="1284480" cy="291960"/>
            </a:xfrm>
            <a:custGeom>
              <a:avLst/>
              <a:gdLst>
                <a:gd name="textAreaLeft" fmla="*/ 224640 w 1284480"/>
                <a:gd name="textAreaRight" fmla="*/ 931320 w 1284480"/>
                <a:gd name="textAreaTop" fmla="*/ 38880 h 291960"/>
                <a:gd name="textAreaBottom" fmla="*/ 25308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98360" y="4670280"/>
              <a:ext cx="2689560" cy="14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ykład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. :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ematerializacja deklaracji podatku od dochodów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Télé-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: Administration24h24.gouv.fr : 600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alności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«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zdematerializowanych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1280" y="3708360"/>
              <a:ext cx="1284120" cy="292320"/>
            </a:xfrm>
            <a:custGeom>
              <a:avLst/>
              <a:gdLst>
                <a:gd name="textAreaLeft" fmla="*/ 224640 w 1284120"/>
                <a:gd name="textAreaRight" fmla="*/ 930960 w 1284120"/>
                <a:gd name="textAreaTop" fmla="*/ 38880 h 292320"/>
                <a:gd name="textAreaBottom" fmla="*/ 253440 h 29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84440" y="2452680"/>
              <a:ext cx="1733760" cy="238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o do 1 tematu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zmiana adresu on 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ekrojowo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on.service-public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estrzeń przechowywania certyfikowanych danych administracyjnych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i dostęp do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zynności on 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32520" y="6442200"/>
              <a:ext cx="1284120" cy="291960"/>
            </a:xfrm>
            <a:custGeom>
              <a:avLst/>
              <a:gdLst>
                <a:gd name="textAreaLeft" fmla="*/ 224640 w 1284120"/>
                <a:gd name="textAreaRight" fmla="*/ 930960 w 1284120"/>
                <a:gd name="textAreaTop" fmla="*/ 38880 h 291960"/>
                <a:gd name="textAreaBottom" fmla="*/ 25308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07640" y="6221520"/>
              <a:ext cx="219420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ykład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.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ularze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pdf 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do wydruku na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service-public.f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48680" y="510300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89000" y="355212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59480" y="207252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8137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Rozwój administracji elektronicznej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źwignia zmian każdego rodzaju administracj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598D5-B3E5-4763-87D4-796C441FBA32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Rozwój usług w czasie rzeczywisty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ematerializacja czynności i oferta nowych usług on lin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materializacja formularz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dostęp za pośrednictwem jednolitej witryny intern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service-public.fr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miana adresu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15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30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prowadzek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kty urodzenia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5.00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niosków dzien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ruchomienie na począt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9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oku portal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 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mon.service-public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testow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elais de Services Public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nios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 dotacje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5373720"/>
            <a:ext cx="8064360" cy="86364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Francja weszła do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europejskiego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Top 5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 dziedzinie usług publicznych on lin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badani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Capgemini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la Komisji Europejskiej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czerwiec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F6052-1700-457B-97C4-05C5102756B8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Wyzwania modernizacji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Ogólny Przegląd Polityk Publicz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60657-8248-454C-8540-FDAAAC7ECD92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owadzenie reformy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995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odległa Premierow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misariat ds. Reformy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CRE)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997-2005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 podległ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nistrowi odpowiedzialnemu za służbę cywilną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ędzyresortowa Delegatura ds. Reformy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IRE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raz różne urzę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DMGPSE, DUSA, ADA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003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yrekcja ds. Reformy Budż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RB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ministerstwie budżet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m wdroże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LOLF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2005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kotwiczenie reformy państwa przy budżeci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tworzenie Generalnej Dyrekcji ds. Modernizacji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GME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ol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lityczn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iągłość pomiędzy reformą budżetową i reformą państw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ynerg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mpetencji i dźwigni działa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2007 : Bud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ż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et +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forma państw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łużba cywilna przy ministrze budżet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E2F03-BE19-4710-AD81-25F919BE6961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G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akotwiczenie przy ministrze budżetu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Fuzja wszystkich istniejących struktur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zapewniająca synergię kompetencji oraz dźwigni działani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adani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DGME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«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Koordynacj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pomoc i zachęt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na szczeblu międzyresortowym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instancji administracyjnych w celu modernizacji sposobów funkcjonowania i zarządzania państwem, aby zapewnić lepszą jakość usługi świadczonej użytkownikom, przyczynić się do bardziej wydajnego wykorzystywania środków publicznych i mobilizować urzędników publicznych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Organizacja, w zasadniczej mierze, w trybie projektu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: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rad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sługi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inno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wacj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Kultura mieszan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public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ny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pr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ywatny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: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urzędnicy państwowi i pracownicy najemni sektora prywatnego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 +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 pomoc usługodawców zewnętrznych z firm konsultingowej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Opracowywanie dokumentacji i zapewnianie spójności kluczowych tematów międzyresortowych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Tworzenie impulsów do podejmowania nowych konkretnych zadań modernizacyjnych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Pomoc i wspieranie administracji w czasie transformacji</a:t>
            </a:r>
            <a:r>
              <a:rPr b="0" lang="fr-FR" sz="16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472FE-1568-46B0-8264-15CBD4499915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udyty modernizacyjn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5-2007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odejście innowacyj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80000" y="2090880"/>
            <a:ext cx="4968720" cy="119376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przynajmniej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1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dyt na ministerstwo co </a:t>
            </a:r>
            <a:br>
              <a:rPr sz="1600"/>
            </a:b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2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iesiąc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 następnie co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3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iesiąc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lipiec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1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dytów rozpoczętych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6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kcjach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obejmujących ponad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1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ld 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20890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mbitny ry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35956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globa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80000" y="3417840"/>
            <a:ext cx="4968720" cy="16668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óżnorodność dział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ocedur i funkcji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obejmujących główne wyzwania w sferze modernizacji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kcje sektor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esort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)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 przekroj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zakupy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łac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archi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izacj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biurotyk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537372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partnersk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80000" y="5229360"/>
            <a:ext cx="4968720" cy="14396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obór temat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to sprawa każdego ministra i prem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ejście to pozwala ministerstwom przyswojenie sobie diagnozy i występowania w roli aktor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ejścia modernizacyj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1344600"/>
            <a:ext cx="792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diografia funkcjonowania państwa w celu poprawy jakości usługi świadczonej na rzecz Francuzów w warunkach optymalizacji koszt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1FABA-9886-459A-94F3-2351FE811B59}" type="slidenum">
              <a:t>15</a:t>
            </a:fld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80000" y="3137040"/>
            <a:ext cx="4870440" cy="723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nspekcje międzyresortowe i ministerialn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6760" algn="just">
              <a:spcBef>
                <a:spcPts val="400"/>
              </a:spcBef>
              <a:tabLst>
                <a:tab algn="l" pos="0"/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zy wsparciu konsultantów z sektora prywat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7520" y="287496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ieszane zespoły audyt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80000" y="1365120"/>
            <a:ext cx="4870440" cy="1440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opozycje konkretne i skwantyfikow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drażanie uzgadniane z interesariusz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Konkretne plany zmian w ciągu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br>
              <a:rPr sz="1600"/>
            </a:b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18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miesię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7520" y="1400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l operacyj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4433760"/>
            <a:ext cx="4870440" cy="714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Ogłaszanie sprawozdań w internec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Tablica rozdzielcza audyt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7520" y="4226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przejrzy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5200" y="5761080"/>
            <a:ext cx="4870440" cy="7142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zrost produktywnoś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noszenie jakości usł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555300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onkretne wyn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udyty modernizacyjn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5-2007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odejście innowacyj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5021E-EF04-4C3B-A170-79DDDF7F47E1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y kontekst polityczn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bór prezydenta Sarkozy’ego w maj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7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a organizacja rządowa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ylko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5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nisterst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nisterstwo finansów podzielone na 2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stwo gospodarki, finansów i zatrudnienia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stwo budżet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rachunków publicznych i służby cywilnej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 jest pilotowana przez urząd prezydenta Republiki oraz gabinet premiera i opiera się na ministerstwie budżet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tanowienie Ogólnego Przeglądu Polityk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RGP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guła niezastępowania pracowników odchodzących na emeryturę w proporcji większej niż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sferze służby cywiln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787FB-FF47-4C13-8358-500F28660437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Wyzwania modernizacji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a50021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a50021"/>
                </a:solidFill>
                <a:latin typeface="Arial"/>
              </a:rPr>
              <a:t>Ogólny Przegląd Polityk Publicznych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C8C8D-E75F-4F20-9D24-687077FEE88E}" type="slidenum">
              <a:t>18</a:t>
            </a:fld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Ogólny Przegląd Polityk Publicznyc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nowi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gólnego przeglądu polityk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RGPP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z prezydenta Republiki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Nicola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SARKOZY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’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e la RGPP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pewnić możliwie jak najlepszą usługę publiczn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jak najtańszym koszt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eryfikacja zadań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szczędności budżetowych i zmniejszania deficyt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mbit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2007-2008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Pilotaż polityczny na najwyższym szczeblu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komitet monitorujący składający się z wielkich decydentów publicznych, rozstrzyga Prezydent Republiki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na posiedzeniu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900" spc="-1" strike="noStrike">
                <a:solidFill>
                  <a:srgbClr val="4d4d4d"/>
                </a:solidFill>
                <a:latin typeface="Arial"/>
              </a:rPr>
              <a:t>rady do spraw modernizacji polityk publicznych</a:t>
            </a:r>
            <a:r>
              <a:rPr b="1" lang="fr-FR" sz="1900" spc="-1" strike="noStrike">
                <a:solidFill>
                  <a:srgbClr val="4d4d4d"/>
                </a:solidFill>
                <a:latin typeface="Arial"/>
              </a:rPr>
              <a:t>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Podejście wyczerpujące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wszystkie domeny działań publicznych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wszystkie resorty i wielcy operatorzy państwa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Narzędzia dotyczące sfery praworządności i celów działania państwa, zanim padnie propozycja reform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RGPP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korzystuj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obre praktyki międzynarodow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łównie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anady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tóra przeprowadził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przegląd program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już w rok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4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i gdzie deficyt publiczny został sprowadzony z poziom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5,9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2 à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nadwyż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0,4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8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57659-565E-40BE-BCEF-4855014A4C08}" type="slidenum">
              <a:t>19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Wyzwania związane z modernizacją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Ogólny Przegląd Polityk Publicz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CED29-DBFD-4F61-A80D-90A981F26A90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880920" y="765000"/>
            <a:ext cx="8261640" cy="6096600"/>
            <a:chOff x="880920" y="765000"/>
            <a:chExt cx="8261640" cy="6096600"/>
          </a:xfrm>
        </p:grpSpPr>
        <p:sp>
          <p:nvSpPr>
            <p:cNvPr id="201" name=""/>
            <p:cNvSpPr/>
            <p:nvPr/>
          </p:nvSpPr>
          <p:spPr>
            <a:xfrm>
              <a:off x="1279440" y="765000"/>
              <a:ext cx="2722680" cy="5400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o robimy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88080" y="765000"/>
              <a:ext cx="2722680" cy="5400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ie są potrzeby i oczekiwania zbiorowe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0920" y="3875040"/>
              <a:ext cx="216072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Kto musi płaci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76840" y="5608800"/>
              <a:ext cx="2170080" cy="566640"/>
            </a:xfrm>
            <a:prstGeom prst="rect">
              <a:avLst/>
            </a:prstGeom>
            <a:solidFill>
              <a:srgbClr val="006600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i scenariusz transformacj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"/>
            <p:cNvCxnSpPr>
              <a:stCxn id="206" idx="1"/>
              <a:endCxn id="203" idx="0"/>
            </p:cNvCxnSpPr>
            <p:nvPr/>
          </p:nvCxnSpPr>
          <p:spPr>
            <a:xfrm flipV="1" rot="10800000">
              <a:off x="1959840" y="2506320"/>
              <a:ext cx="186444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7" name=""/>
            <p:cNvSpPr/>
            <p:nvPr/>
          </p:nvSpPr>
          <p:spPr>
            <a:xfrm>
              <a:off x="1341360" y="1427040"/>
              <a:ext cx="249732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ą cele 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zapewnia ona usług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o gwarantuj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Do czego się przyczyni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emu zaradz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Kim są beneficjenci, o których mowa, i jakie posiadają cechy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95680" y="6272280"/>
              <a:ext cx="275112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cenariusze zmian celem uzyskania skuteczniejszej i mniej kosztownej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 zapewnić skuteczne wdrożeni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13720" y="4522680"/>
              <a:ext cx="2328840" cy="9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wprowadzić należy zmiany celem modernizacj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optymalizującej środk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realizacji takiej polityk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przy zapewnieniu przestrzegania jej celów oraz poprawy ram pracy urzędnik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uprościć struktury i procedury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4920" y="4514760"/>
              <a:ext cx="228888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uzasadnione jest finansowanie takiej polityki przez państwo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go rodzaju współfinansowanie mlożna tu sobie wyobrazii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81840" y="1336680"/>
              <a:ext cx="2889000" cy="14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a polityka zawsze służy interesowi publicznemu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działy odpowiadają potrzebom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ą nowe oczekiwani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ą nową ofertę usług zaproponowa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ewoluowali beneficjenc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Kim rzeczywiście są beneficjenc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ego rodzaju polityka niesie w sobie skutki przewrotn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lub też środki będące swoistą manną z nieb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9600" y="389412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Kto musi płaci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96160" y="387504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 zrobić lepiej i taniej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24280" y="2170080"/>
              <a:ext cx="2160720" cy="6732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zy wciąż należy tak postępowa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"/>
            <p:cNvCxnSpPr>
              <a:stCxn id="201" idx="3"/>
              <a:endCxn id="206" idx="0"/>
            </p:cNvCxnSpPr>
            <p:nvPr/>
          </p:nvCxnSpPr>
          <p:spPr>
            <a:xfrm>
              <a:off x="4003200" y="1034640"/>
              <a:ext cx="9010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>
              <a:stCxn id="202" idx="1"/>
              <a:endCxn id="206" idx="0"/>
            </p:cNvCxnSpPr>
            <p:nvPr/>
          </p:nvCxnSpPr>
          <p:spPr>
            <a:xfrm flipV="1" rot="10800000">
              <a:off x="4903200" y="1034640"/>
              <a:ext cx="8848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6" idx="2"/>
              <a:endCxn id="212" idx="0"/>
            </p:cNvCxnSpPr>
            <p:nvPr/>
          </p:nvCxnSpPr>
          <p:spPr>
            <a:xfrm rot="5400000">
              <a:off x="4377600" y="3364920"/>
              <a:ext cx="1048320" cy="7200"/>
            </a:xfrm>
            <a:prstGeom prst="bentConnector3">
              <a:avLst>
                <a:gd name="adj1" fmla="val 52421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7" name=""/>
            <p:cNvCxnSpPr>
              <a:stCxn id="206" idx="3"/>
              <a:endCxn id="213" idx="0"/>
            </p:cNvCxnSpPr>
            <p:nvPr/>
          </p:nvCxnSpPr>
          <p:spPr>
            <a:xfrm>
              <a:off x="5986080" y="2506320"/>
              <a:ext cx="198972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8" name=""/>
            <p:cNvSpPr/>
            <p:nvPr/>
          </p:nvSpPr>
          <p:spPr>
            <a:xfrm>
              <a:off x="3462480" y="2913120"/>
              <a:ext cx="2919240" cy="84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należy taką politykę utrzymywa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należy dokonać rewizji cel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usługi powinna ona świadczy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dostosować narzędzia 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 Czy należy zmieniać zakres beneficjent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0" idx="2"/>
              <a:endCxn id="204" idx="0"/>
            </p:cNvCxnSpPr>
            <p:nvPr/>
          </p:nvCxnSpPr>
          <p:spPr>
            <a:xfrm flipH="1" rot="16200000">
              <a:off x="4708440" y="5354280"/>
              <a:ext cx="504000" cy="2160"/>
            </a:xfrm>
            <a:prstGeom prst="bentConnector3">
              <a:avLst>
                <a:gd name="adj1" fmla="val 49749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0" name=""/>
            <p:cNvCxnSpPr>
              <a:stCxn id="203" idx="2"/>
              <a:endCxn id="204" idx="1"/>
            </p:cNvCxnSpPr>
            <p:nvPr/>
          </p:nvCxnSpPr>
          <p:spPr>
            <a:xfrm flipH="1" rot="16200000">
              <a:off x="2189880" y="4205520"/>
              <a:ext cx="1458000" cy="19137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1" name=""/>
            <p:cNvCxnSpPr>
              <a:stCxn id="209" idx="2"/>
              <a:endCxn id="204" idx="3"/>
            </p:cNvCxnSpPr>
            <p:nvPr/>
          </p:nvCxnSpPr>
          <p:spPr>
            <a:xfrm rot="5400000">
              <a:off x="6816240" y="4728960"/>
              <a:ext cx="392760" cy="193248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1428840" y="93204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89600" y="92700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2040" y="21718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61920" y="40798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71800" y="408636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69240" y="4194000"/>
              <a:ext cx="187200" cy="20196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8480" y="602460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0000" y="4552920"/>
              <a:ext cx="2184480" cy="149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Ta polityka może być skuteczniej zabezpieczana za pośrednictwem innych aktorów lub form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o państwo powinno taką politykę prowadzi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Na jakim poziomi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Dzięki jakiej współpracy i powiązaniom z innymi aktorami o charakterze publicznym lub prywatnym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rot="16200000">
            <a:off x="-1652400" y="1654200"/>
            <a:ext cx="4205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27920" cy="5349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Siatka analizy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RGP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AA5FE-EA99-4874-ABC2-FFFD1684FB72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naliza dotyczy różnego rodzaju wydatkó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187280" y="1773360"/>
            <a:ext cx="7054920" cy="4532040"/>
            <a:chOff x="1187280" y="1773360"/>
            <a:chExt cx="7054920" cy="4532040"/>
          </a:xfrm>
        </p:grpSpPr>
        <p:sp>
          <p:nvSpPr>
            <p:cNvPr id="234" name=""/>
            <p:cNvSpPr/>
            <p:nvPr/>
          </p:nvSpPr>
          <p:spPr>
            <a:xfrm>
              <a:off x="1187280" y="1773360"/>
              <a:ext cx="3395880" cy="630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63280" y="1892160"/>
              <a:ext cx="2391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Aparat produkcyj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30840" y="1774800"/>
              <a:ext cx="3397320" cy="6256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94640" y="1892160"/>
              <a:ext cx="1401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Interwencj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87280" y="2544840"/>
              <a:ext cx="3395880" cy="149220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47960" y="2606760"/>
              <a:ext cx="1944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Rodzaj wy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44880" y="2546280"/>
              <a:ext cx="3397320" cy="149220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07000" y="2608200"/>
              <a:ext cx="1944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Rodzaj wy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25440" y="2846520"/>
              <a:ext cx="332424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datki osobow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datki bieżąc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 (y.c.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otacje dla operatorów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nwestycj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 « 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cyjn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 » (informat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yka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obrót nieruchomościami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td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13280" y="2927520"/>
              <a:ext cx="3325680" cy="10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Wydatki interwencyjn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 (transfer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y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otacj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)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inwestycje strukturując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 (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obrona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infrastruktura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Wydatki o charakterze fiskalny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87280" y="4246560"/>
              <a:ext cx="1638360" cy="203040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48120" y="4246560"/>
              <a:ext cx="1640160" cy="205884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02400" y="4246560"/>
              <a:ext cx="1638360" cy="205884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38320" y="4246560"/>
              <a:ext cx="1641600" cy="205884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6836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unkcje wspar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0500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unkcje operacyj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13280" y="4317840"/>
              <a:ext cx="150984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wencje dyskrecjonal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2156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wencje przy „otwartym okienku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25440" y="4876920"/>
              <a:ext cx="15163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cja central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spieranie polityk publiczny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Przekrojowe funkcje wspierają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33720" y="4876920"/>
              <a:ext cx="15159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Stosunki bezpośrednie z użytkowniki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konanie usługi publicznej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świadcze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13280" y="4876920"/>
              <a:ext cx="15177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Klasyczna logika dotacj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Ewentualnie na zasadzie umownej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49920" y="4876920"/>
              <a:ext cx="15177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ka świadczeń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transferów bezpośredni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Na podstawie kryteriów otwierających dane praw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8D4CD-B3DE-4168-9DF4-B32499B27CBE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601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Organizacja prac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95200" y="981000"/>
            <a:ext cx="8739360" cy="7095960"/>
            <a:chOff x="295200" y="981000"/>
            <a:chExt cx="8739360" cy="7095960"/>
          </a:xfrm>
        </p:grpSpPr>
        <p:sp>
          <p:nvSpPr>
            <p:cNvPr id="258" name=""/>
            <p:cNvSpPr/>
            <p:nvPr/>
          </p:nvSpPr>
          <p:spPr>
            <a:xfrm>
              <a:off x="295200" y="981000"/>
              <a:ext cx="5932440" cy="633384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5280" y="1198440"/>
              <a:ext cx="2727360" cy="106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15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ministerialnych zespołów audytowy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(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szef zespołu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członkowie ciała inspekcyjnego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konsultanci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48000" y="1214280"/>
              <a:ext cx="2735280" cy="133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6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zespołów do spraw</a:t>
              </a: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wielkich polityk interwencyjny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Metoda specjalna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–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później przypisanie do zespołów audytowy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64360" y="1198440"/>
              <a:ext cx="2741400" cy="1068120"/>
            </a:xfrm>
            <a:prstGeom prst="roundRect">
              <a:avLst>
                <a:gd name="adj" fmla="val 16667"/>
              </a:avLst>
            </a:prstGeom>
            <a:solidFill>
              <a:srgbClr val="564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4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międzyresortowe grupy robocz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Pilotaż automatyczny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odmienny od zespołów audytowy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8360" y="2754720"/>
              <a:ext cx="2662200" cy="451224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ewnętrzne działania pańs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ubliczna pomoc na rzecz rozwoj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lnictwo i rybołówstw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ultura i komunikacja oraz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łużby Premi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bro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kologia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trwały rozwój i zagospodarowanie przestrzen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auczanie szkol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zkolnictwo wyższe i badania nauk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ieci finans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Wymiar sprawiedliwoś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chrona zdrowia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olidarność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– 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ezpieczeństw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igracja a integrac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prawy wewnętr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Terytoria zamo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21080" y="2754720"/>
              <a:ext cx="2662200" cy="402912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dz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bezpieczenie chorob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lityki solidarności oraz zwalczania ubós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Miasta i mieszka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trudnienie a kształcenie zawod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zwój przedsiębiorst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72360" y="2754720"/>
              <a:ext cx="2662200" cy="273852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e zasobami ludzki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rganizacja administracji samorządowej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lacje łączące państwo z samorządami lokalny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proszczenie procedur wewnętrzn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72360" y="5574960"/>
              <a:ext cx="2662200" cy="120708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danie specjaln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mniejszenie obciążeń administracyjnych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zedsiębiorstw i samorządów lokaln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"/>
            <p:cNvCxnSpPr>
              <a:stCxn id="262" idx="2"/>
              <a:endCxn id="263" idx="2"/>
            </p:cNvCxnSpPr>
            <p:nvPr/>
          </p:nvCxnSpPr>
          <p:spPr>
            <a:xfrm flipH="1" flipV="1" rot="5400000">
              <a:off x="3033000" y="5550120"/>
              <a:ext cx="485640" cy="2951640"/>
            </a:xfrm>
            <a:prstGeom prst="bentConnector3">
              <a:avLst>
                <a:gd name="adj1" fmla="val -166468"/>
              </a:avLst>
            </a:prstGeom>
            <a:ln cap="sq" w="9360">
              <a:solidFill>
                <a:srgbClr val="564294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2" idx="2"/>
              <a:endCxn id="265" idx="2"/>
            </p:cNvCxnSpPr>
            <p:nvPr/>
          </p:nvCxnSpPr>
          <p:spPr>
            <a:xfrm flipH="1" flipV="1" rot="5400000">
              <a:off x="4507920" y="4074120"/>
              <a:ext cx="487080" cy="5902920"/>
            </a:xfrm>
            <a:prstGeom prst="bentConnector3">
              <a:avLst>
                <a:gd name="adj1" fmla="val -166050"/>
              </a:avLst>
            </a:prstGeom>
            <a:ln cap="sq" w="9360">
              <a:solidFill>
                <a:srgbClr val="564294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6BAB6-3BF1-4FB5-9ADE-97614659F790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50920" y="2062080"/>
            <a:ext cx="1393560" cy="71928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18" y="0"/>
                </a:lnTo>
                <a:lnTo>
                  <a:pt x="21600" y="10800"/>
                </a:lnTo>
                <a:lnTo>
                  <a:pt x="189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uruchomieni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ra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9236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1" y="0"/>
                </a:lnTo>
                <a:lnTo>
                  <a:pt x="21600" y="10800"/>
                </a:lnTo>
                <a:lnTo>
                  <a:pt x="203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Komitet Monitorując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prace analityczne i scenariusze pośredni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4824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0" y="0"/>
                </a:lnTo>
                <a:lnTo>
                  <a:pt x="21600" y="10800"/>
                </a:lnTo>
                <a:lnTo>
                  <a:pt x="206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Komitet Monitorujący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Ostateczne scenariusz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24360" y="1341360"/>
            <a:ext cx="136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ada ds. Modernizacji Polityk Publicz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45080" y="1341360"/>
            <a:ext cx="13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ada ds. Modernizacji Polityk Publicz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80360" y="2062080"/>
            <a:ext cx="1763640" cy="71928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34" y="0"/>
                </a:lnTo>
                <a:lnTo>
                  <a:pt x="21600" y="10800"/>
                </a:lnTo>
                <a:lnTo>
                  <a:pt x="19034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ziałania transformacyj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1844640"/>
            <a:ext cx="1225440" cy="217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Lipiec-sierpień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1844640"/>
            <a:ext cx="265752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rzesień-grudzień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46440" y="1844640"/>
            <a:ext cx="2678400" cy="216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Styczeń-maj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80360" y="1844640"/>
            <a:ext cx="155268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2008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2925720"/>
            <a:ext cx="1441440" cy="3168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ruchomienie podejścia przez Prem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tanowienie zespołów audytow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2360" y="2925720"/>
            <a:ext cx="280836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nie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2007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każde ministerstwo staje przed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mitetem Monitorującym celem zbadania scenariuszy zmiany polityk ministerstw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erwsza Rada ds. modernizacji polityk publicznych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da stan zaawansowania pra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grudni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2925720"/>
            <a:ext cx="266400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rugie stawiennictwo przed Komitetem Monitorującym celem zgłębienia scenariuszy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eny ich wpływu oraz zbadani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unków wsparci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zerwie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Rada ds. Modernizacji Polityk Publicznych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ostaje powiadomiona o strategicznych scenariuszach wszystkich resortów i przyjmuje zasadnicze decyzj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15360" y="4483080"/>
            <a:ext cx="16286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2925720"/>
            <a:ext cx="151308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drażanie reform przewidzianych na okre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9-2011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ramach budżetu wieloletni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bilizacja wszystkich dźwigni modernizacyjn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1636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24360" y="2781360"/>
            <a:ext cx="180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0108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6896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3600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823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alendarz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093080" y="208080"/>
            <a:ext cx="1906560" cy="1058760"/>
            <a:chOff x="7093080" y="208080"/>
            <a:chExt cx="1906560" cy="105876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7093080" y="208080"/>
              <a:ext cx="1906560" cy="10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5AC21-AA8D-4386-B49B-A30183BC5720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65160" y="1522080"/>
            <a:ext cx="771048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150000"/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3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środków reformy ogłoszonych w czerwcu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2008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Oszczędności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szczędność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7,7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mld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€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 ciągu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4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la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czyli około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5 %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szczędności w omawianym zakresi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Redukcja zatrudnieni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50 %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niezastąpionych pracowników po ich odejściu na emeryturę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30.600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likwidowanych miejsc pracy w budżeci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2009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Modernizacja resortów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Konsekwencje fuzji kilku ministerstw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o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50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liczby dyrekcji w administracji centralnej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200) (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Finans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Generalna Dyrekcja Finansów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do spraw podatkow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Reforma państwa samorządowego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liczby placówek w tereni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bron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ymiar sprawiedliwości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chrona zdrowia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Szczebel regionalny podlega prawu powszechnemu, jeśli chodzi o programowanie polityk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hierarchiczna zwierzchność prefekta regionu nad prefektem departamentu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liczby dyrekcji regional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8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amias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30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Departamen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ykonanie polityk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awężenie struktur wokół prefekt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3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nowe międzyresortowe dyrekcj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1F7D2-E64A-44BC-B99F-82F702C59DF1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55640" y="1415880"/>
            <a:ext cx="7920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dania przekrojow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aństwo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amorządy lokaln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yjaśnienie spraw kompetencyjnych po przyjęciu ustaw decentralizacyj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łagodzenie i ujęcie w ramy norm narzucanych przez państwo samorząd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psze przestrzeganie globalnego wymogu finansów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 kierunku reformy szczebli administracji w roku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2009 ?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gmin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wiązki gmin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d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partament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r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g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proszczenie wewnętrznych procedur pa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tworze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 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gencji usług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 »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ających w łonie państwa większą elastyczność zarządzania autonomicznym strukturom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gulowanie inflacji normatyw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przednie badanie wpływ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praszczanie procedur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ganizacja ministe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kładanie zamówień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nsultacj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forma kontroli wydatków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ksperyment z komitetem budżetowania zamiast uprzedniego wizowania aktów kontroli finansow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10EAD-5EB7-4104-86E7-DA7549714BA2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55280" y="1522080"/>
            <a:ext cx="838836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rządzanie finansami publicznym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ieloletni budżet dla państ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2009-2011)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stawa w sprawie programowania finansów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jęta w grudni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8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ciślejsze reguły przyjmowania w dziedzinie wydatków podatk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jonalizacja i mutualizacja funkcji wspierając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stanowienie krajowego operatora ds. płac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entralizacja polityki w dziedzinie obrotu nieruchomościam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dukcj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datku papierowego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»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łagodzenie obciążeń dla przedsiębio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ozwój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e-gov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forma organizacji zakup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rajowa agencja zakupów zmutualizowa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prawa obsługi w sferze usług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sługa wielokanało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pieranie restrukturyz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przez odpowiednią politykę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dziedzini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sobów ludzki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emie za mobilność i dodatek za dobrowolne przejście na emeryturę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B2333-2B71-4AA8-BE2F-05FEB85F6908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 kierunku zmiany statusu służby cywilnej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just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iała księg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4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pozycji modernizacji służby cywilnej w rok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8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projektu ustawy 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9,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y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organizacja statusu tego korpusu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 utworzeni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7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ielkich działów zawodowych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dministracja ogóln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fina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y socjal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dukacja i badania nauk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y kultur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echnik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ezpieczeństw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za sprawami wojskowości i sądownic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definicja miejsca umowy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mowy publicznoprawne w przypadku suwerennych miejsc prac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umowy prywatnoprawne w przypadku pozostałych miejsc pracy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lenie części wynagrodzenia za zasług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kładowa uwzględniająca usytuowanie w hierarchi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sługa la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 +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kładowa związana z zatrudnieni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ęść stała i część zmienn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wiązana z wynikam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362320" y="645480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6705720" y="6400800"/>
          <a:ext cx="914400" cy="33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05720" y="6400800"/>
                    <a:ext cx="91440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2590920" y="6324480"/>
            <a:ext cx="4876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38280" y="6477120"/>
            <a:ext cx="5334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62320" y="6095880"/>
            <a:ext cx="5257800" cy="9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66996-1CA9-4310-A6E1-31F282BC5434}" type="slidenum">
              <a:t>27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4720" y="4940280"/>
            <a:ext cx="3095640" cy="1584360"/>
          </a:xfrm>
          <a:prstGeom prst="cloudCallout">
            <a:avLst>
              <a:gd name="adj1" fmla="val 50462"/>
              <a:gd name="adj2" fmla="val -100601"/>
            </a:avLst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tuacja finansów publicznyc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ficyt i zadłużeni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2133720"/>
            <a:ext cx="2592360" cy="1871640"/>
          </a:xfrm>
          <a:prstGeom prst="cloudCallout">
            <a:avLst>
              <a:gd name="adj1" fmla="val -93722"/>
              <a:gd name="adj2" fmla="val 44995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mograf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trakcyjność służby cywil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3080" y="4581360"/>
            <a:ext cx="2808360" cy="1727280"/>
          </a:xfrm>
          <a:prstGeom prst="cloudCallout">
            <a:avLst>
              <a:gd name="adj1" fmla="val -70972"/>
              <a:gd name="adj2" fmla="val -7628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miany społecz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czekiwania obywat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1339920"/>
            <a:ext cx="3167280" cy="1800000"/>
          </a:xfrm>
          <a:prstGeom prst="cloudCallout">
            <a:avLst>
              <a:gd name="adj1" fmla="val -11652"/>
              <a:gd name="adj2" fmla="val 8015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lobalna konkurencyjność państwa w zglobalizowanej gospoda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494080"/>
            <a:ext cx="2952720" cy="1871640"/>
          </a:xfrm>
          <a:prstGeom prst="cloudCallout">
            <a:avLst>
              <a:gd name="adj1" fmla="val 65055"/>
              <a:gd name="adj2" fmla="val 23708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łączenie różnych poziomów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dministr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ństwo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morządy lokal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a Europejsk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79800" y="3413160"/>
            <a:ext cx="3219480" cy="911160"/>
          </a:xfrm>
          <a:prstGeom prst="ellipse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Wyzw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aństwo musi stawić czoło poważnym wyzwanio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0542E-9375-4B8C-B8D2-43BF7876FBDD}" type="slidenum">
              <a:t>3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ontekst i zasięg reformy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ontekst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udna sytuacja finansów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dłuż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63,9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KB i deficy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,7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KB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7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sięg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aństwo to tylko część sfery publicz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wet obywatele zawsze zwracają się do rząd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ud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lityki publiczne określane przez państw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hociaż niektóre spośród nich są zarządzane przez podmioty autonomicz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69880" y="3933720"/>
            <a:ext cx="8535960" cy="2080080"/>
            <a:chOff x="569880" y="3933720"/>
            <a:chExt cx="8535960" cy="2080080"/>
          </a:xfrm>
        </p:grpSpPr>
        <p:sp>
          <p:nvSpPr>
            <p:cNvPr id="104" name=""/>
            <p:cNvSpPr/>
            <p:nvPr/>
          </p:nvSpPr>
          <p:spPr>
            <a:xfrm>
              <a:off x="2914560" y="4121640"/>
              <a:ext cx="157824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Państw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różne podmio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03640" y="3993840"/>
              <a:ext cx="187020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a publiczna szczebla lokalne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07280" y="4226760"/>
              <a:ext cx="172728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Ubezpieczenia społecz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9880" y="3933720"/>
              <a:ext cx="1913040" cy="12286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0880" y="4259160"/>
              <a:ext cx="175896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a publicz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16360" y="3940200"/>
              <a:ext cx="16542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03640" y="3940200"/>
              <a:ext cx="18720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07280" y="3940200"/>
              <a:ext cx="179856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8436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708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4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991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ld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2,4%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16360" y="5380200"/>
              <a:ext cx="158256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340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48360" y="5380200"/>
              <a:ext cx="158256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207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51640" y="5380200"/>
              <a:ext cx="158292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444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,5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117B3-F056-4F3C-8B8A-471C680F3736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Elementy składowe budżetu państwa francuskieg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dzaj wydatk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43%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datków osobow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2% d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datków interwencyjn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6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iężar dług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4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ania bieżą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nwestycj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owość wydatk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1,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dukacja narodo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3,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ania społeczne-zatrudnienie-ochrona zdrowi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3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ron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8,6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dania naukowe i szkolnictwo wyższ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adr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2,2 M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rzędni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5 M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azem z samorządami lokalnym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szpitalnictwem, czyl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wodowo czynnej lud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 czego połowa to nauczyciele finansowani z budżetu pa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74C8F-86D8-400A-8E47-BA2801BEE970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źwignie modernizacji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84360" y="1758960"/>
            <a:ext cx="7829280" cy="4189320"/>
            <a:chOff x="684360" y="1758960"/>
            <a:chExt cx="7829280" cy="4189320"/>
          </a:xfrm>
        </p:grpSpPr>
        <p:sp>
          <p:nvSpPr>
            <p:cNvPr id="123" name=""/>
            <p:cNvSpPr/>
            <p:nvPr/>
          </p:nvSpPr>
          <p:spPr>
            <a:xfrm>
              <a:off x="684360" y="1758960"/>
              <a:ext cx="7829280" cy="418932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840084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82560" y="1963080"/>
              <a:ext cx="684072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>
                <a:lnSpc>
                  <a:spcPct val="15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Trzy zasadnicze dźwignie</a:t>
              </a:r>
              <a:r>
                <a:rPr b="1" lang="fr-FR" sz="2800" spc="-1" strike="noStrike">
                  <a:solidFill>
                    <a:srgbClr val="a50021"/>
                  </a:solidFill>
                  <a:latin typeface="Arial"/>
                </a:rPr>
                <a:t> «</a:t>
              </a: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klasyczne</a:t>
              </a:r>
              <a:r>
                <a:rPr b="1" lang="fr-FR" sz="2800" spc="-1" strike="noStrike">
                  <a:solidFill>
                    <a:srgbClr val="a50021"/>
                  </a:solidFill>
                  <a:latin typeface="Arial"/>
                </a:rPr>
                <a:t>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owe zarządzanie publiczne</a:t>
              </a: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(LOLF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proszczenie i wymóg jakoś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ozwój administracji elektroniczne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54080" y="2984400"/>
              <a:ext cx="847800" cy="435240"/>
            </a:xfrm>
            <a:prstGeom prst="ellips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54080" y="3776760"/>
              <a:ext cx="847800" cy="434880"/>
            </a:xfrm>
            <a:prstGeom prst="ellipse">
              <a:avLst/>
            </a:prstGeom>
            <a:solidFill>
              <a:srgbClr val="ff0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54080" y="4640400"/>
              <a:ext cx="847800" cy="434880"/>
            </a:xfrm>
            <a:prstGeom prst="ellipse">
              <a:avLst/>
            </a:prstGeom>
            <a:solidFill>
              <a:srgbClr val="840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1A7A2-A773-46A6-BDF6-42EBC7C28E1C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1360" indent="0">
              <a:buNone/>
              <a:tabLst>
                <a:tab algn="l" pos="0"/>
                <a:tab algn="l" pos="441360"/>
                <a:tab algn="l" pos="1355760"/>
                <a:tab algn="l" pos="2270160"/>
                <a:tab algn="l" pos="3184560"/>
                <a:tab algn="l" pos="4098960"/>
                <a:tab algn="l" pos="5013360"/>
                <a:tab algn="l" pos="5927760"/>
                <a:tab algn="l" pos="6842160"/>
                <a:tab algn="l" pos="7756560"/>
                <a:tab algn="l" pos="8670960"/>
                <a:tab algn="l" pos="9585360"/>
                <a:tab algn="l" pos="1049976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Nowe zarządzanie publiczne promowane przez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LOL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92792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fleksja na temat sensu działan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ormalizacja strategii i celów polityk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wobod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lobalizacja limitów środków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koncentracja decyzji zarządczych celem poszukiwania zysków wydajności jak najbliżej terenu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dpowiedzialność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ogika wydajnośc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ele i wskaźnik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rzędzia pilotażu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stem informacji budżetowo-księgowej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chunkowość roku obrachunkowego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trola zarządzan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55640" y="2986200"/>
            <a:ext cx="8135640" cy="3890520"/>
            <a:chOff x="755640" y="2986200"/>
            <a:chExt cx="8135640" cy="3890520"/>
          </a:xfrm>
        </p:grpSpPr>
        <p:sp>
          <p:nvSpPr>
            <p:cNvPr id="131" name=""/>
            <p:cNvSpPr/>
            <p:nvPr/>
          </p:nvSpPr>
          <p:spPr>
            <a:xfrm>
              <a:off x="3567600" y="4008600"/>
              <a:ext cx="2162520" cy="97920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640" y="3751200"/>
              <a:ext cx="2402280" cy="1495440"/>
            </a:xfrm>
            <a:prstGeom prst="rect">
              <a:avLst/>
            </a:prstGeom>
            <a:solidFill>
              <a:srgbClr val="66cc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Aktorz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6920" y="4303800"/>
              <a:ext cx="2173680" cy="707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okładnie zidentyfikowa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niej licz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Bardziej odpowiedzial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56320" y="4255920"/>
              <a:ext cx="1489320" cy="4906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Zdolność do działan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9800" y="4087800"/>
              <a:ext cx="74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4400" spc="-1" strike="noStrike">
                  <a:solidFill>
                    <a:srgbClr val="fc0128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06480" y="3373560"/>
              <a:ext cx="2405520" cy="3349440"/>
            </a:xfrm>
            <a:prstGeom prst="rect">
              <a:avLst/>
            </a:prstGeom>
            <a:noFill/>
            <a:ln cap="sq"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5691240" y="4369320"/>
              <a:ext cx="520920" cy="322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c012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86200" y="3419640"/>
              <a:ext cx="2116440" cy="34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iększa skuteczność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raktyczna dział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Zespoły umotywowane i zmobilizowane na osiąganiu wytyczonych wyników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iększa zdolność dostosowania działań z uwzględnieniem wyników celem rozwiązywania problemów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43200" y="3586320"/>
              <a:ext cx="2998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43200" y="4672080"/>
              <a:ext cx="3016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43200" y="5989680"/>
              <a:ext cx="3016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1600" y="5067360"/>
              <a:ext cx="2737080" cy="708120"/>
            </a:xfrm>
            <a:prstGeom prst="rect">
              <a:avLst/>
            </a:pr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ymóg wstępny celem budowy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systemu odpowiedzialności ukierunkowanego na wyniki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27280" y="2986200"/>
              <a:ext cx="26640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99"/>
                  </a:solidFill>
                  <a:latin typeface="Arial"/>
                </a:rPr>
                <a:t>Spodziewane korzyś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F7788-C70E-488C-8B59-A9780676212A}" type="slidenum">
              <a:t>7</a:t>
            </a:fld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Jakość i uproszczeni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wy upraszczając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cz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la osób fizycznych i przedsiębiorst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alka z inflacją normatywn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e współpracy z Generalnym Sekretariatem Rząd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SGG)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dania wpływ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yfikacja/labelizacja działów obsługi petent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powszechnienie testów jak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miana kart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Mariann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kierunku udokumentow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rtyfikacji/labelizacji jak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miar 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mniejszenie obciążeń administra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iążących na użytkownika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sobach fizycznych i przedsiębiorstwa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tanowienie wskaźnika złożo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ynności administracyjn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mniejszenie 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jonalizacja komisji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administra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kret z d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8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erwc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sprawie powoływania komisji wyłącznie na określony okres czas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8BA17-DA7C-45E7-8E8B-268584FDDAE3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1800" indent="0">
              <a:buNone/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Rozwój administracji elektronicznej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pewnienie wymiany elektronicznej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rządzenie z dni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8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grudni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2005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sprawie wymiany elektronicznej stanowi podstawę prawną konieczną do przyspieszenia i upowszechnienie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ażność prawna poczty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dpis elektroniczny aktów administr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estrzeń przechowywan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utualizacja inwestycji celem uniknięcia ich redundan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chemat przewodni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ganizuje międzyresortowy pilotaż rozwoju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 ustanowieniem zasad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mutuali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cj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az skuteczności dział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47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icjatyw zgłoszonych przez ministerstwo przewod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racowanie ogólnych przepisów interoperacyjności i bezpiecze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przypadku państwa chodzi o określe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korpusu reguł,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tóry łączy w sobie zarazem specyfikę zawodową administracji, przestrzeganie poufności danych, płynność wymiany danych cyfrowych, bezpieczeństwo systemów inform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3BF6C-DB44-47BB-9D09-3DFA9500BA9A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21:39:02Z</dcterms:created>
  <dc:creator>Alexandre MONTAY</dc:creator>
  <dc:description/>
  <dc:language>en-US</dc:language>
  <cp:lastModifiedBy>KAS</cp:lastModifiedBy>
  <cp:lastPrinted>2006-05-04T09:07:55Z</cp:lastPrinted>
  <dcterms:modified xsi:type="dcterms:W3CDTF">2009-02-05T11:39:53Z</dcterms:modified>
  <cp:revision>577</cp:revision>
  <dc:subject/>
  <dc:title>Présentation PowerPoint</dc:title>
</cp:coreProperties>
</file>